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F85-217B-4398-B92B-869EB58008D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ostrar a Integração dos módulos do sistema Administr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adoria = RM Sald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primentos = RM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Orçamentario= RM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stão de Contratos = RM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nanças= RMFlux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Fiscal= RML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Patrimonial= RMBo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stão estratégica = RMB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talhar os processos da solução de finanças RMFLuxus, pontos importa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gração contas a pagar, contas a receber, tesouraria, FLUXO DE CAIXA, Bancos e Contabilid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Adiantamentos a Cl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Adiantamentos a fornece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ateio de despesas e receitas por centro de cus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stão de crédito de clientes e fornecedores baseada nos títulos em aberto e no limite de crédito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os títulos em diferentes moe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licações Financeiros Automatiza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brança Eletrôn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gamento Eletrôn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ntos importa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renciamento do estoque de forma segmentada ( Matéria Prima, Produtos Semi-Acabados, acabados,Materiais de Consumo e Produtos para revend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saldo de reserva do esto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produtos em consign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dministração eficaz dos custos do esto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supri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cesso de Cot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dro Comparativo de Preç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ntos Importa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* Administração de contratos periódicos e não periód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ponto entrar no RMB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ostrar quais os outras soluções fornecidas pela a RM Sist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ntos Importa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mpla parametrização – Utilização de fórmu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gração com a Contabilidade e Financei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ssibilidade da geração de vários períodos no mês para a geração da F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gime de Caixa e Competê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e gerenciamento de vale-transpo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lculo de diferenç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ateio de eventos por centro de cus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ntos Importa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mportação automática de bati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patível com qualquer relógio de ponto que gere arquivo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isualização gráfica do arquivo do funcion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banco de ho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dastramento de jorna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orários altern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visita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role de crachás provisó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E75-3331-4153-A10B-B4681054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AD5-65D4-42BD-BB69-8FA7BC62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006-D924-485C-B6D3-7CD120C8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1FF-1C2E-4327-9086-4DB05497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1F0-3CC0-4335-8D26-A7BD73A6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76E-49D5-47EA-9253-D57F27AD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C7E-EB88-4887-A3D8-F583C193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9D-CC2B-4080-B2BD-72D76BD1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9D3-AF09-4D16-B695-7F9A27FC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E02-6C27-4AC7-9719-3194BFA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683-B464-49AE-9D85-5B12A9F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CB9-B46E-4065-9E1F-64993F4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-393840"/>
            <a:ext cx="7925040" cy="725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D08-E410-447E-BCCC-725BDA661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659640" y="602136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2574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A Tecnologia da Inform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ger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Flexibilidade, Integração e Descentralizaçã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843280" y="3429000"/>
            <a:ext cx="3241080" cy="2257560"/>
            <a:chOff x="2843280" y="3429000"/>
            <a:chExt cx="3241080" cy="2257560"/>
          </a:xfrm>
        </p:grpSpPr>
        <p:sp>
          <p:nvSpPr>
            <p:cNvPr id="53" name="Puzzle3"/>
            <p:cNvSpPr/>
            <p:nvPr/>
          </p:nvSpPr>
          <p:spPr>
            <a:xfrm>
              <a:off x="4421880" y="3429000"/>
              <a:ext cx="1274040" cy="1199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4051080" y="4302720"/>
              <a:ext cx="2033280" cy="1092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3264120" y="4289400"/>
              <a:ext cx="1225800" cy="13971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2843280" y="3791880"/>
              <a:ext cx="2058840" cy="832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6478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visar seus processos manualmente e fazer uma colcha de retalhos com diversos fornecedore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.. Mas correndo o risco de ser taxado de insano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253280" y="3500280"/>
            <a:ext cx="189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Verdana"/>
              </a:rPr>
              <a:t>Optar por uma solução Integrada de Gestão Empresarial (ERP)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Onde está o segredo?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ua empresa tem 90% das inform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us funcionários sabem o que a sua empresa precisa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bviamente falta tecnologia pois não é o seu negó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roveite a tecnologia de negócio que um software ERP pode agregar. Não desconsidere a hipótese de revisar proces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O que você tem que pensar...</a:t>
            </a:r>
            <a:endParaRPr b="0" i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visão dos Processos Exist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gregar ou aceitar Novos Process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reinar muito bem seu Pess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rganizaç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rnecedor de Confiança (capitalizado financeiramente e tecnologicament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Como Obter sucesso...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0000"/>
                </a:solidFill>
                <a:latin typeface="Verdana"/>
              </a:rPr>
              <a:t>... Faça uma bo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0000"/>
                </a:solidFill>
                <a:latin typeface="Verdana"/>
              </a:rPr>
              <a:t>Implantação !!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500" spc="-1" strike="noStrike">
                <a:solidFill>
                  <a:srgbClr val="000000"/>
                </a:solidFill>
                <a:latin typeface="Verdana"/>
              </a:rPr>
              <a:t>Isso pode se resumir em...</a:t>
            </a:r>
            <a:endParaRPr b="0" i="1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fornecedor tem  um método organizado e formal para implantar a soluçã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ja de fornecedores que desconsiderem a questão serviço e tratem tudo como se fosse apenas software (venda de pacot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Verdana"/>
              </a:rPr>
              <a:t>Metodologia de Implantação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324080"/>
            <a:ext cx="8239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Verdana"/>
              </a:rPr>
              <a:t>Atendimento ao cliente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52480" y="822240"/>
            <a:ext cx="6172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O ERP deve possuir: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115880" y="838080"/>
            <a:ext cx="72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CR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520" y="1219320"/>
            <a:ext cx="159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e-comme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640" y="1600200"/>
            <a:ext cx="1860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e-procur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7880" y="2057400"/>
            <a:ext cx="263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automação comer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0200" y="2451240"/>
            <a:ext cx="115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finanç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832120"/>
            <a:ext cx="1780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controladori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5600" y="3137040"/>
            <a:ext cx="2329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recursos human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27840" y="3441600"/>
            <a:ext cx="248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materiais e logístic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4560" y="3746520"/>
            <a:ext cx="1649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supply cha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64600" y="4127400"/>
            <a:ext cx="1273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produçã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51520" y="4432320"/>
            <a:ext cx="261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business intellig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3920" y="4737240"/>
            <a:ext cx="674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AS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1800" y="5029200"/>
            <a:ext cx="40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manutenção e assisténcia técnic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784080" y="1773360"/>
            <a:ext cx="7844040" cy="4321080"/>
            <a:chOff x="784080" y="1773360"/>
            <a:chExt cx="7844040" cy="4321080"/>
          </a:xfrm>
        </p:grpSpPr>
        <p:grpSp>
          <p:nvGrpSpPr>
            <p:cNvPr id="105" name=""/>
            <p:cNvGrpSpPr/>
            <p:nvPr/>
          </p:nvGrpSpPr>
          <p:grpSpPr>
            <a:xfrm>
              <a:off x="784080" y="1773360"/>
              <a:ext cx="7844040" cy="4321080"/>
              <a:chOff x="784080" y="1773360"/>
              <a:chExt cx="7844040" cy="4321080"/>
            </a:xfrm>
          </p:grpSpPr>
          <p:sp>
            <p:nvSpPr>
              <p:cNvPr id="106" name=""/>
              <p:cNvSpPr/>
              <p:nvPr/>
            </p:nvSpPr>
            <p:spPr>
              <a:xfrm>
                <a:off x="784080" y="1773360"/>
                <a:ext cx="7844040" cy="432108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9600" y="1844640"/>
                <a:ext cx="7443720" cy="403200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82800" y="1917720"/>
                <a:ext cx="6979680" cy="367308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16360" y="1917720"/>
                <a:ext cx="6447240" cy="331092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16360" y="1989000"/>
                <a:ext cx="6048720" cy="295236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82240" y="1989000"/>
                <a:ext cx="5783760" cy="273636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381680" y="2133720"/>
              <a:ext cx="5383800" cy="2519280"/>
              <a:chOff x="1381680" y="2133720"/>
              <a:chExt cx="5383800" cy="2519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381680" y="2133720"/>
                <a:ext cx="5383800" cy="251928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26680" y="2175480"/>
                <a:ext cx="5109120" cy="235080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8120" y="2217960"/>
                <a:ext cx="4790520" cy="214164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09920" y="2217960"/>
                <a:ext cx="4425120" cy="193032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09920" y="2259360"/>
                <a:ext cx="4151520" cy="172116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54920" y="2259360"/>
                <a:ext cx="3969720" cy="159552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836640" y="1808280"/>
            <a:ext cx="7775640" cy="2565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2141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50000">
                <a:srgbClr val="fee4e4"/>
              </a:gs>
              <a:gs pos="100000">
                <a:srgbClr val="ff000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ad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6280" y="315900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>
                  <a:alpha val="70196"/>
                </a:srgbClr>
              </a:gs>
              <a:gs pos="50000">
                <a:srgbClr val="fef3e4">
                  <a:alpha val="20000"/>
                </a:srgbClr>
              </a:gs>
              <a:gs pos="100000">
                <a:srgbClr val="ff990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42000" y="212400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>
                  <a:alpha val="70196"/>
                </a:srgbClr>
              </a:gs>
              <a:gs pos="50000">
                <a:srgbClr val="e9f3ee"/>
              </a:gs>
              <a:gs pos="100000">
                <a:srgbClr val="3399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s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315900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nanç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42000" y="3176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>
                  <a:alpha val="70196"/>
                </a:srgbClr>
              </a:gs>
              <a:gs pos="50000">
                <a:srgbClr val="fefefe"/>
              </a:gs>
              <a:gs pos="100000">
                <a:srgbClr val="80008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trimon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2141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>
                  <a:alpha val="70196"/>
                </a:srgbClr>
              </a:gs>
              <a:gs pos="50000">
                <a:srgbClr val="e9f3ee"/>
              </a:gs>
              <a:gs pos="100000">
                <a:srgbClr val="3399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Supr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4920" y="489600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gração dos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112840"/>
            <a:ext cx="1440000" cy="81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176640"/>
            <a:ext cx="144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>
                  <a:alpha val="57254"/>
                </a:srgbClr>
              </a:gs>
              <a:gs pos="50000">
                <a:srgbClr val="fef8f3"/>
              </a:gs>
              <a:gs pos="100000">
                <a:srgbClr val="ffcc99">
                  <a:alpha val="5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rçamentá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3504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837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enário Atu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37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Problemas Rea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37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Soluções Rea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37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Solução ER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7269120" y="76320"/>
            <a:ext cx="136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Fina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14172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nanç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32000" y="2060640"/>
            <a:ext cx="6661080" cy="1888920"/>
            <a:chOff x="1332000" y="2060640"/>
            <a:chExt cx="6661080" cy="1888920"/>
          </a:xfrm>
        </p:grpSpPr>
        <p:sp>
          <p:nvSpPr>
            <p:cNvPr id="133" name=""/>
            <p:cNvSpPr/>
            <p:nvPr/>
          </p:nvSpPr>
          <p:spPr>
            <a:xfrm>
              <a:off x="1332000" y="212256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6280" y="313992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42000" y="210492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2000" y="315756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Patrimon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86280" y="212256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53080" y="206064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315756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Orçamentár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0920" y="1179360"/>
            <a:ext cx="8638560" cy="5129280"/>
            <a:chOff x="250920" y="1179360"/>
            <a:chExt cx="8638560" cy="5129280"/>
          </a:xfrm>
        </p:grpSpPr>
        <p:cxnSp>
          <p:nvCxnSpPr>
            <p:cNvPr id="141" name=""/>
            <p:cNvCxnSpPr>
              <a:stCxn id="142" idx="2"/>
              <a:endCxn id="143" idx="0"/>
            </p:cNvCxnSpPr>
            <p:nvPr/>
          </p:nvCxnSpPr>
          <p:spPr>
            <a:xfrm flipV="1" rot="10800000">
              <a:off x="970560" y="2827080"/>
              <a:ext cx="1080" cy="442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0"/>
              <a:endCxn id="143" idx="2"/>
            </p:cNvCxnSpPr>
            <p:nvPr/>
          </p:nvCxnSpPr>
          <p:spPr>
            <a:xfrm flipV="1">
              <a:off x="970920" y="4060080"/>
              <a:ext cx="1080" cy="4676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250920" y="203508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B2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-comme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920" y="326880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Ve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03400" y="3267000"/>
              <a:ext cx="143928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Limite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réd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0920" y="1179360"/>
              <a:ext cx="718920" cy="378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7" idx="4"/>
              <a:endCxn id="142" idx="0"/>
            </p:cNvCxnSpPr>
            <p:nvPr/>
          </p:nvCxnSpPr>
          <p:spPr>
            <a:xfrm flipV="1" rot="10800000">
              <a:off x="970560" y="1571400"/>
              <a:ext cx="1080" cy="4640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3848040" y="5516640"/>
              <a:ext cx="14392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8760" y="550692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crit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95560" y="1989000"/>
              <a:ext cx="3346200" cy="288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imento via che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atu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sal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devolu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adianta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Baixas parci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istribuição por centr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e cu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brança Eletrô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920" y="452772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rente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Loj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4480" y="2698920"/>
              <a:ext cx="1078920" cy="47772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an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8760" y="5516640"/>
              <a:ext cx="1439280" cy="792000"/>
            </a:xfrm>
            <a:prstGeom prst="flowChartDocumen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elató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4120" y="1287360"/>
              <a:ext cx="143928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>
                    <a:alpha val="70196"/>
                  </a:srgbClr>
                </a:gs>
                <a:gs pos="50000">
                  <a:srgbClr val="e2e9fe"/>
                </a:gs>
                <a:gs pos="100000">
                  <a:srgbClr val="3366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as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3" idx="3"/>
              <a:endCxn id="146" idx="1"/>
            </p:cNvCxnSpPr>
            <p:nvPr/>
          </p:nvCxnSpPr>
          <p:spPr>
            <a:xfrm flipV="1">
              <a:off x="1690560" y="3663720"/>
              <a:ext cx="313200" cy="2160"/>
            </a:xfrm>
            <a:prstGeom prst="bentConnector3">
              <a:avLst>
                <a:gd name="adj1" fmla="val 4994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1" idx="3"/>
              <a:endCxn id="152" idx="2"/>
            </p:cNvCxnSpPr>
            <p:nvPr/>
          </p:nvCxnSpPr>
          <p:spPr>
            <a:xfrm flipV="1">
              <a:off x="7242120" y="2937600"/>
              <a:ext cx="522720" cy="491400"/>
            </a:xfrm>
            <a:prstGeom prst="bentConnector3">
              <a:avLst>
                <a:gd name="adj1" fmla="val 49827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endCxn id="151" idx="1"/>
            </p:cNvCxnSpPr>
            <p:nvPr/>
          </p:nvCxnSpPr>
          <p:spPr>
            <a:xfrm flipV="1">
              <a:off x="3443040" y="3428280"/>
              <a:ext cx="452880" cy="23580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/>
            <p:nvPr/>
          </p:nvCxnSpPr>
          <p:spPr>
            <a:xfrm>
              <a:off x="2678040" y="5229000"/>
              <a:ext cx="54914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59" name=""/>
            <p:cNvCxnSpPr>
              <a:endCxn id="150" idx="0"/>
            </p:cNvCxnSpPr>
            <p:nvPr/>
          </p:nvCxnSpPr>
          <p:spPr>
            <a:xfrm>
              <a:off x="2679120" y="5229000"/>
              <a:ext cx="1080" cy="278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0" name=""/>
            <p:cNvCxnSpPr>
              <a:stCxn id="151" idx="2"/>
            </p:cNvCxnSpPr>
            <p:nvPr/>
          </p:nvCxnSpPr>
          <p:spPr>
            <a:xfrm>
              <a:off x="5568480" y="4868640"/>
              <a:ext cx="1080" cy="36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1" name=""/>
            <p:cNvCxnSpPr>
              <a:endCxn id="153" idx="0"/>
            </p:cNvCxnSpPr>
            <p:nvPr/>
          </p:nvCxnSpPr>
          <p:spPr>
            <a:xfrm>
              <a:off x="6459120" y="5229360"/>
              <a:ext cx="1080" cy="288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2" name=""/>
            <p:cNvCxnSpPr>
              <a:endCxn id="149" idx="0"/>
            </p:cNvCxnSpPr>
            <p:nvPr/>
          </p:nvCxnSpPr>
          <p:spPr>
            <a:xfrm>
              <a:off x="4568400" y="5229360"/>
              <a:ext cx="1080" cy="288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7449840" y="550692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lux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ix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endCxn id="163" idx="0"/>
            </p:cNvCxnSpPr>
            <p:nvPr/>
          </p:nvCxnSpPr>
          <p:spPr>
            <a:xfrm>
              <a:off x="8168760" y="5229000"/>
              <a:ext cx="1800" cy="278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252360" y="1179360"/>
            <a:ext cx="8639280" cy="5129280"/>
            <a:chOff x="252360" y="1179360"/>
            <a:chExt cx="8639280" cy="5129280"/>
          </a:xfrm>
        </p:grpSpPr>
        <p:cxnSp>
          <p:nvCxnSpPr>
            <p:cNvPr id="166" name=""/>
            <p:cNvCxnSpPr>
              <a:stCxn id="167" idx="2"/>
              <a:endCxn id="168" idx="0"/>
            </p:cNvCxnSpPr>
            <p:nvPr/>
          </p:nvCxnSpPr>
          <p:spPr>
            <a:xfrm flipV="1" rot="10800000">
              <a:off x="972360" y="2827080"/>
              <a:ext cx="1080" cy="442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252360" y="203508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B2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-comme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2360" y="32688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05200" y="326700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çament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2720" y="1179360"/>
              <a:ext cx="719280" cy="378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4"/>
              <a:endCxn id="167" idx="0"/>
            </p:cNvCxnSpPr>
            <p:nvPr/>
          </p:nvCxnSpPr>
          <p:spPr>
            <a:xfrm flipV="1" rot="10800000">
              <a:off x="972360" y="1571400"/>
              <a:ext cx="1080" cy="4640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3849840" y="551664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60560" y="550692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crit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87920" y="1989000"/>
              <a:ext cx="3349440" cy="288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mento via che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mento eletrô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devolu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adianta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Baixas parci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istribuição por centro de cu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53440" y="2698920"/>
              <a:ext cx="1392120" cy="47772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an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0560" y="5516640"/>
              <a:ext cx="1439640" cy="792000"/>
            </a:xfrm>
            <a:prstGeom prst="flowChartDocument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elató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05920" y="128736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>
                    <a:alpha val="70196"/>
                  </a:srgbClr>
                </a:gs>
                <a:gs pos="50000">
                  <a:srgbClr val="e2e9fe"/>
                </a:gs>
                <a:gs pos="100000">
                  <a:srgbClr val="3366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a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68" idx="3"/>
              <a:endCxn id="169" idx="1"/>
            </p:cNvCxnSpPr>
            <p:nvPr/>
          </p:nvCxnSpPr>
          <p:spPr>
            <a:xfrm flipV="1">
              <a:off x="1692000" y="3663720"/>
              <a:ext cx="31356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74" idx="3"/>
              <a:endCxn id="175" idx="2"/>
            </p:cNvCxnSpPr>
            <p:nvPr/>
          </p:nvCxnSpPr>
          <p:spPr>
            <a:xfrm flipV="1">
              <a:off x="7137360" y="2937600"/>
              <a:ext cx="316800" cy="491400"/>
            </a:xfrm>
            <a:prstGeom prst="bentConnector3">
              <a:avLst>
                <a:gd name="adj1" fmla="val 49715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69" idx="3"/>
              <a:endCxn id="174" idx="1"/>
            </p:cNvCxnSpPr>
            <p:nvPr/>
          </p:nvCxnSpPr>
          <p:spPr>
            <a:xfrm flipV="1">
              <a:off x="3444480" y="3428280"/>
              <a:ext cx="343800" cy="235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/>
            <p:nvPr/>
          </p:nvCxnSpPr>
          <p:spPr>
            <a:xfrm>
              <a:off x="973080" y="5229360"/>
              <a:ext cx="7198560" cy="2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82" name=""/>
            <p:cNvCxnSpPr>
              <a:endCxn id="173" idx="0"/>
            </p:cNvCxnSpPr>
            <p:nvPr/>
          </p:nvCxnSpPr>
          <p:spPr>
            <a:xfrm>
              <a:off x="2680920" y="5229000"/>
              <a:ext cx="1080" cy="278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83" name=""/>
            <p:cNvCxnSpPr>
              <a:stCxn id="174" idx="2"/>
            </p:cNvCxnSpPr>
            <p:nvPr/>
          </p:nvCxnSpPr>
          <p:spPr>
            <a:xfrm>
              <a:off x="5462280" y="4868640"/>
              <a:ext cx="1080" cy="36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84" name=""/>
            <p:cNvCxnSpPr>
              <a:endCxn id="176" idx="0"/>
            </p:cNvCxnSpPr>
            <p:nvPr/>
          </p:nvCxnSpPr>
          <p:spPr>
            <a:xfrm>
              <a:off x="6460920" y="5229360"/>
              <a:ext cx="1080" cy="288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85" name=""/>
            <p:cNvCxnSpPr>
              <a:endCxn id="172" idx="0"/>
            </p:cNvCxnSpPr>
            <p:nvPr/>
          </p:nvCxnSpPr>
          <p:spPr>
            <a:xfrm>
              <a:off x="4570200" y="5229360"/>
              <a:ext cx="1080" cy="288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86" name=""/>
            <p:cNvSpPr/>
            <p:nvPr/>
          </p:nvSpPr>
          <p:spPr>
            <a:xfrm>
              <a:off x="7451640" y="550692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lux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ix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endCxn id="186" idx="0"/>
            </p:cNvCxnSpPr>
            <p:nvPr/>
          </p:nvCxnSpPr>
          <p:spPr>
            <a:xfrm>
              <a:off x="8170920" y="5229000"/>
              <a:ext cx="2160" cy="278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252360" y="551664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ef3e9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olh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endCxn id="188" idx="0"/>
            </p:cNvCxnSpPr>
            <p:nvPr/>
          </p:nvCxnSpPr>
          <p:spPr>
            <a:xfrm>
              <a:off x="972720" y="5229360"/>
              <a:ext cx="1080" cy="288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90" name=""/>
            <p:cNvSpPr/>
            <p:nvPr/>
          </p:nvSpPr>
          <p:spPr>
            <a:xfrm>
              <a:off x="7451640" y="3665520"/>
              <a:ext cx="1393920" cy="47772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plic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74" idx="3"/>
              <a:endCxn id="190" idx="2"/>
            </p:cNvCxnSpPr>
            <p:nvPr/>
          </p:nvCxnSpPr>
          <p:spPr>
            <a:xfrm>
              <a:off x="7137000" y="3428640"/>
              <a:ext cx="315000" cy="477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2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564E-006 -7.40741E-007 L 0.67548 -0.26782 E">
                                      <p:cBhvr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86280" y="232236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>
                  <a:alpha val="70196"/>
                </a:srgbClr>
              </a:gs>
              <a:gs pos="50000">
                <a:srgbClr val="e9f3ee"/>
              </a:gs>
              <a:gs pos="100000">
                <a:srgbClr val="3399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Supr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32000" y="2260440"/>
            <a:ext cx="6661080" cy="1889280"/>
            <a:chOff x="1332000" y="2260440"/>
            <a:chExt cx="6661080" cy="1889280"/>
          </a:xfrm>
        </p:grpSpPr>
        <p:sp>
          <p:nvSpPr>
            <p:cNvPr id="196" name=""/>
            <p:cNvSpPr/>
            <p:nvPr/>
          </p:nvSpPr>
          <p:spPr>
            <a:xfrm>
              <a:off x="133200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nanç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200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8628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2000" y="230508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2000" y="335772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Patrimon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53080" y="2260440"/>
              <a:ext cx="144000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080" y="33577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Orçamentár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52360" y="1287360"/>
            <a:ext cx="8729280" cy="4886280"/>
            <a:chOff x="252360" y="1287360"/>
            <a:chExt cx="8729280" cy="4886280"/>
          </a:xfrm>
        </p:grpSpPr>
        <p:sp>
          <p:nvSpPr>
            <p:cNvPr id="204" name=""/>
            <p:cNvSpPr/>
            <p:nvPr/>
          </p:nvSpPr>
          <p:spPr>
            <a:xfrm>
              <a:off x="7541640" y="128736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3"/>
              <a:endCxn id="207" idx="1"/>
            </p:cNvCxnSpPr>
            <p:nvPr/>
          </p:nvCxnSpPr>
          <p:spPr>
            <a:xfrm>
              <a:off x="3446640" y="3347640"/>
              <a:ext cx="31536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252360" y="1484280"/>
              <a:ext cx="143892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quisiçã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7360" y="2951280"/>
              <a:ext cx="143892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dem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51280" y="43927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to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61280" y="2951280"/>
              <a:ext cx="14385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53080" y="142236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trimôn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51280" y="23940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80" y="4149720"/>
              <a:ext cx="719280" cy="378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1280" y="344664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8" idx="2"/>
              <a:endCxn id="215" idx="0"/>
            </p:cNvCxnSpPr>
            <p:nvPr/>
          </p:nvCxnSpPr>
          <p:spPr>
            <a:xfrm flipH="1" rot="16200000">
              <a:off x="639000" y="2608560"/>
              <a:ext cx="667440" cy="3240"/>
            </a:xfrm>
            <a:prstGeom prst="bentConnector3">
              <a:avLst>
                <a:gd name="adj1" fmla="val 4997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V="1" rot="16200000">
              <a:off x="689760" y="3926880"/>
              <a:ext cx="426240" cy="3600"/>
            </a:xfrm>
            <a:prstGeom prst="bentConnector3">
              <a:avLst>
                <a:gd name="adj1" fmla="val 5147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5653080" y="538164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crit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/>
            <p:nvPr/>
          </p:nvCxnSpPr>
          <p:spPr>
            <a:xfrm>
              <a:off x="5381640" y="1808280"/>
              <a:ext cx="1800" cy="396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219" name=""/>
            <p:cNvCxnSpPr>
              <a:stCxn id="207" idx="3"/>
            </p:cNvCxnSpPr>
            <p:nvPr/>
          </p:nvCxnSpPr>
          <p:spPr>
            <a:xfrm>
              <a:off x="5200200" y="3347640"/>
              <a:ext cx="1836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220" name=""/>
            <p:cNvCxnSpPr>
              <a:endCxn id="210" idx="1"/>
            </p:cNvCxnSpPr>
            <p:nvPr/>
          </p:nvCxnSpPr>
          <p:spPr>
            <a:xfrm>
              <a:off x="5382720" y="1807920"/>
              <a:ext cx="270360" cy="118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endCxn id="211" idx="1"/>
            </p:cNvCxnSpPr>
            <p:nvPr/>
          </p:nvCxnSpPr>
          <p:spPr>
            <a:xfrm>
              <a:off x="5382000" y="2790360"/>
              <a:ext cx="2696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endCxn id="213" idx="1"/>
            </p:cNvCxnSpPr>
            <p:nvPr/>
          </p:nvCxnSpPr>
          <p:spPr>
            <a:xfrm>
              <a:off x="5382000" y="3843000"/>
              <a:ext cx="2696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endCxn id="209" idx="1"/>
            </p:cNvCxnSpPr>
            <p:nvPr/>
          </p:nvCxnSpPr>
          <p:spPr>
            <a:xfrm>
              <a:off x="5382000" y="4777920"/>
              <a:ext cx="269640" cy="118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endCxn id="217" idx="1"/>
            </p:cNvCxnSpPr>
            <p:nvPr/>
          </p:nvCxnSpPr>
          <p:spPr>
            <a:xfrm>
              <a:off x="5382720" y="5769000"/>
              <a:ext cx="270360" cy="10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253800" y="2943360"/>
              <a:ext cx="14385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15" idx="3"/>
              <a:endCxn id="206" idx="1"/>
            </p:cNvCxnSpPr>
            <p:nvPr/>
          </p:nvCxnSpPr>
          <p:spPr>
            <a:xfrm>
              <a:off x="1692360" y="3340080"/>
              <a:ext cx="31536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6" name=""/>
          <p:cNvGrpSpPr/>
          <p:nvPr/>
        </p:nvGrpSpPr>
        <p:grpSpPr>
          <a:xfrm>
            <a:off x="1327320" y="1268280"/>
            <a:ext cx="7651440" cy="4707000"/>
            <a:chOff x="1327320" y="1268280"/>
            <a:chExt cx="7651440" cy="4707000"/>
          </a:xfrm>
        </p:grpSpPr>
        <p:sp>
          <p:nvSpPr>
            <p:cNvPr id="227" name=""/>
            <p:cNvSpPr/>
            <p:nvPr/>
          </p:nvSpPr>
          <p:spPr>
            <a:xfrm>
              <a:off x="7538400" y="1268280"/>
              <a:ext cx="144036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Ve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" name=""/>
            <p:cNvCxnSpPr>
              <a:stCxn id="229" idx="3"/>
              <a:endCxn id="230" idx="1"/>
            </p:cNvCxnSpPr>
            <p:nvPr/>
          </p:nvCxnSpPr>
          <p:spPr>
            <a:xfrm>
              <a:off x="2767320" y="3328560"/>
              <a:ext cx="40644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30" idx="0"/>
              <a:endCxn id="232" idx="1"/>
            </p:cNvCxnSpPr>
            <p:nvPr/>
          </p:nvCxnSpPr>
          <p:spPr>
            <a:xfrm flipH="1" flipV="1" rot="5400000">
              <a:off x="4084200" y="1906560"/>
              <a:ext cx="835920" cy="12157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30" idx="3"/>
              <a:endCxn id="234" idx="1"/>
            </p:cNvCxnSpPr>
            <p:nvPr/>
          </p:nvCxnSpPr>
          <p:spPr>
            <a:xfrm>
              <a:off x="4614480" y="3328560"/>
              <a:ext cx="44928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0" idx="2"/>
              <a:endCxn id="236" idx="1"/>
            </p:cNvCxnSpPr>
            <p:nvPr/>
          </p:nvCxnSpPr>
          <p:spPr>
            <a:xfrm flipH="1" rot="16200000">
              <a:off x="4046400" y="3572280"/>
              <a:ext cx="821520" cy="11246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1327320" y="293220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quis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e Cl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18760" y="414828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to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73760" y="293220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Ve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9840" y="1700280"/>
              <a:ext cx="143892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87680" y="2114640"/>
              <a:ext cx="719280" cy="377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63040" y="293220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" name=""/>
            <p:cNvCxnSpPr>
              <a:stCxn id="229" idx="0"/>
              <a:endCxn id="237" idx="4"/>
            </p:cNvCxnSpPr>
            <p:nvPr/>
          </p:nvCxnSpPr>
          <p:spPr>
            <a:xfrm flipV="1">
              <a:off x="2048040" y="2506320"/>
              <a:ext cx="1080" cy="4262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5018760" y="518328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crit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"/>
            <p:cNvCxnSpPr>
              <a:stCxn id="230" idx="2"/>
              <a:endCxn id="239" idx="1"/>
            </p:cNvCxnSpPr>
            <p:nvPr/>
          </p:nvCxnSpPr>
          <p:spPr>
            <a:xfrm flipH="1" rot="16200000">
              <a:off x="3528720" y="4089600"/>
              <a:ext cx="1856520" cy="11246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41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0256E-006 3.7037E-006 L 0.48365 -0.14838 E">
                                      <p:cBhvr>
                                        <p:cTn id="22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86280" y="333684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>
                  <a:alpha val="70196"/>
                </a:srgbClr>
              </a:gs>
              <a:gs pos="50000">
                <a:srgbClr val="fef3e4">
                  <a:alpha val="20000"/>
                </a:srgbClr>
              </a:gs>
              <a:gs pos="100000">
                <a:srgbClr val="ff990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32000" y="2260440"/>
            <a:ext cx="6661080" cy="1889280"/>
            <a:chOff x="1332000" y="2260440"/>
            <a:chExt cx="6661080" cy="1889280"/>
          </a:xfrm>
        </p:grpSpPr>
        <p:sp>
          <p:nvSpPr>
            <p:cNvPr id="244" name=""/>
            <p:cNvSpPr/>
            <p:nvPr/>
          </p:nvSpPr>
          <p:spPr>
            <a:xfrm>
              <a:off x="308628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3200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nanç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200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42000" y="230508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42000" y="335772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Patrimon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3080" y="2260440"/>
              <a:ext cx="144000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3080" y="33577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Orçamentár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39840" y="1197000"/>
            <a:ext cx="8685000" cy="5003280"/>
            <a:chOff x="339840" y="1197000"/>
            <a:chExt cx="8685000" cy="5003280"/>
          </a:xfrm>
        </p:grpSpPr>
        <p:sp>
          <p:nvSpPr>
            <p:cNvPr id="253" name=""/>
            <p:cNvSpPr/>
            <p:nvPr/>
          </p:nvSpPr>
          <p:spPr>
            <a:xfrm>
              <a:off x="7585200" y="1368360"/>
              <a:ext cx="143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>
                    <a:alpha val="70196"/>
                  </a:srgbClr>
                </a:gs>
                <a:gs pos="50000">
                  <a:srgbClr val="fef3e4">
                    <a:alpha val="20000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55" idx="2"/>
              <a:endCxn id="256" idx="0"/>
            </p:cNvCxnSpPr>
            <p:nvPr/>
          </p:nvCxnSpPr>
          <p:spPr>
            <a:xfrm flipV="1" rot="10800000">
              <a:off x="1059840" y="4004640"/>
              <a:ext cx="1080" cy="51300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55" name=""/>
            <p:cNvSpPr/>
            <p:nvPr/>
          </p:nvSpPr>
          <p:spPr>
            <a:xfrm>
              <a:off x="339840" y="3213000"/>
              <a:ext cx="143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den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4840" y="47797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2040" y="338904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0200" y="1197000"/>
              <a:ext cx="718920" cy="377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65800" y="4379760"/>
              <a:ext cx="144000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/>
            <p:nvPr/>
          </p:nvCxnSpPr>
          <p:spPr>
            <a:xfrm flipV="1">
              <a:off x="1060200" y="1574280"/>
              <a:ext cx="1080" cy="40680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7167600" y="5408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crit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840" y="451764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09840" y="1908000"/>
              <a:ext cx="3375000" cy="212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com Fornece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Periódi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não Periódi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rre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atas de fatu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rê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quant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56" idx="3"/>
              <a:endCxn id="263" idx="1"/>
            </p:cNvCxnSpPr>
            <p:nvPr/>
          </p:nvCxnSpPr>
          <p:spPr>
            <a:xfrm flipV="1">
              <a:off x="1779120" y="2969280"/>
              <a:ext cx="631080" cy="1945080"/>
            </a:xfrm>
            <a:prstGeom prst="bentConnector3">
              <a:avLst>
                <a:gd name="adj1" fmla="val 49828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6" idx="3"/>
              <a:endCxn id="257" idx="1"/>
            </p:cNvCxnSpPr>
            <p:nvPr/>
          </p:nvCxnSpPr>
          <p:spPr>
            <a:xfrm>
              <a:off x="4074840" y="5176440"/>
              <a:ext cx="27036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6703560" y="5806800"/>
              <a:ext cx="43884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>
              <a:off x="6703560" y="4776120"/>
              <a:ext cx="46260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>
              <a:off x="6703560" y="3785760"/>
              <a:ext cx="43884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6703560" y="3785760"/>
              <a:ext cx="1080" cy="2017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271" name=""/>
            <p:cNvCxnSpPr>
              <a:stCxn id="257" idx="3"/>
            </p:cNvCxnSpPr>
            <p:nvPr/>
          </p:nvCxnSpPr>
          <p:spPr>
            <a:xfrm flipV="1">
              <a:off x="5784480" y="4779360"/>
              <a:ext cx="919800" cy="397440"/>
            </a:xfrm>
            <a:prstGeom prst="bentConnector3">
              <a:avLst>
                <a:gd name="adj1" fmla="val 49882"/>
              </a:avLst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266" name=""/>
            <p:cNvSpPr/>
            <p:nvPr/>
          </p:nvSpPr>
          <p:spPr>
            <a:xfrm>
              <a:off x="2635200" y="47797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dem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ornec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63" idx="2"/>
              <a:endCxn id="266" idx="0"/>
            </p:cNvCxnSpPr>
            <p:nvPr/>
          </p:nvCxnSpPr>
          <p:spPr>
            <a:xfrm rot="5400000">
              <a:off x="3351240" y="4034160"/>
              <a:ext cx="749520" cy="741960"/>
            </a:xfrm>
            <a:prstGeom prst="bentConnector3">
              <a:avLst>
                <a:gd name="adj1" fmla="val 4997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339840" y="1981080"/>
              <a:ext cx="143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t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3" idx="2"/>
              <a:endCxn id="255" idx="0"/>
            </p:cNvCxnSpPr>
            <p:nvPr/>
          </p:nvCxnSpPr>
          <p:spPr>
            <a:xfrm flipV="1" rot="10800000">
              <a:off x="1059840" y="2772720"/>
              <a:ext cx="1080" cy="4402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317520" y="1114560"/>
            <a:ext cx="8685000" cy="4906800"/>
            <a:chOff x="317520" y="1114560"/>
            <a:chExt cx="8685000" cy="4906800"/>
          </a:xfrm>
        </p:grpSpPr>
        <p:sp>
          <p:nvSpPr>
            <p:cNvPr id="276" name=""/>
            <p:cNvSpPr/>
            <p:nvPr/>
          </p:nvSpPr>
          <p:spPr>
            <a:xfrm>
              <a:off x="7562160" y="135900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>
                    <a:alpha val="70196"/>
                  </a:srgbClr>
                </a:gs>
                <a:gs pos="50000">
                  <a:srgbClr val="fef3e4">
                    <a:alpha val="20000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8" idx="2"/>
              <a:endCxn id="279" idx="0"/>
            </p:cNvCxnSpPr>
            <p:nvPr/>
          </p:nvCxnSpPr>
          <p:spPr>
            <a:xfrm flipV="1" rot="10800000">
              <a:off x="1037880" y="2709720"/>
              <a:ext cx="1080" cy="6562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8" name=""/>
            <p:cNvSpPr/>
            <p:nvPr/>
          </p:nvSpPr>
          <p:spPr>
            <a:xfrm>
              <a:off x="317520" y="1917720"/>
              <a:ext cx="144036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quis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e Cl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78600" y="4832280"/>
              <a:ext cx="143856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Lot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atu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48040" y="321012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880" y="1114560"/>
              <a:ext cx="719280" cy="377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71440" y="4200480"/>
              <a:ext cx="144036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8" idx="0"/>
              <a:endCxn id="282" idx="4"/>
            </p:cNvCxnSpPr>
            <p:nvPr/>
          </p:nvCxnSpPr>
          <p:spPr>
            <a:xfrm flipV="1">
              <a:off x="1038240" y="1506240"/>
              <a:ext cx="1080" cy="4118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85" name=""/>
            <p:cNvSpPr/>
            <p:nvPr/>
          </p:nvSpPr>
          <p:spPr>
            <a:xfrm>
              <a:off x="6572880" y="522936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crit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7520" y="3365640"/>
              <a:ext cx="144036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Ve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87880" y="2078280"/>
              <a:ext cx="3374640" cy="192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com cl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Periódi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não Periódi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rre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atas de fatu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rê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>
              <a:off x="6109920" y="5627880"/>
              <a:ext cx="438480" cy="216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9" idx="3"/>
              <a:endCxn id="286" idx="1"/>
            </p:cNvCxnSpPr>
            <p:nvPr/>
          </p:nvCxnSpPr>
          <p:spPr>
            <a:xfrm flipV="1">
              <a:off x="1757880" y="3040200"/>
              <a:ext cx="630720" cy="722520"/>
            </a:xfrm>
            <a:prstGeom prst="bentConnector3">
              <a:avLst>
                <a:gd name="adj1" fmla="val 4985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endCxn id="280" idx="0"/>
            </p:cNvCxnSpPr>
            <p:nvPr/>
          </p:nvCxnSpPr>
          <p:spPr>
            <a:xfrm flipV="1" rot="10800000">
              <a:off x="4097160" y="4001760"/>
              <a:ext cx="1080" cy="8308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endCxn id="283" idx="1"/>
            </p:cNvCxnSpPr>
            <p:nvPr/>
          </p:nvCxnSpPr>
          <p:spPr>
            <a:xfrm>
              <a:off x="6109920" y="4597200"/>
              <a:ext cx="46224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1" idx="1"/>
            </p:cNvCxnSpPr>
            <p:nvPr/>
          </p:nvCxnSpPr>
          <p:spPr>
            <a:xfrm>
              <a:off x="6109920" y="3606480"/>
              <a:ext cx="43848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/>
            <p:nvPr/>
          </p:nvCxnSpPr>
          <p:spPr>
            <a:xfrm>
              <a:off x="6109560" y="3606480"/>
              <a:ext cx="1080" cy="2018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293" name=""/>
            <p:cNvCxnSpPr>
              <a:stCxn id="280" idx="3"/>
            </p:cNvCxnSpPr>
            <p:nvPr/>
          </p:nvCxnSpPr>
          <p:spPr>
            <a:xfrm flipV="1">
              <a:off x="4817520" y="4596840"/>
              <a:ext cx="1293120" cy="63252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ff0000"/>
              </a:solidFill>
              <a:miter/>
            </a:ln>
          </p:spPr>
        </p:cxnSp>
      </p:grpSp>
      <p:sp>
        <p:nvSpPr>
          <p:cNvPr id="294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5723E-006 L 0.48246 -0.29365 E">
                                      <p:cBhvr>
                                        <p:cTn id="24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842000" y="230508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>
                  <a:alpha val="70196"/>
                </a:srgbClr>
              </a:gs>
              <a:gs pos="50000">
                <a:srgbClr val="e9f3ee"/>
              </a:gs>
              <a:gs pos="100000">
                <a:srgbClr val="3399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s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32000" y="2260440"/>
            <a:ext cx="6661080" cy="1889280"/>
            <a:chOff x="1332000" y="2260440"/>
            <a:chExt cx="6661080" cy="1889280"/>
          </a:xfrm>
        </p:grpSpPr>
        <p:sp>
          <p:nvSpPr>
            <p:cNvPr id="297" name=""/>
            <p:cNvSpPr/>
            <p:nvPr/>
          </p:nvSpPr>
          <p:spPr>
            <a:xfrm>
              <a:off x="308628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8628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3200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nanç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3200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42000" y="335772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Patrimon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53080" y="2260440"/>
              <a:ext cx="144000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3080" y="33577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Orçamentár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08000" y="1584360"/>
            <a:ext cx="6985080" cy="4860720"/>
            <a:chOff x="108000" y="1584360"/>
            <a:chExt cx="6985080" cy="4860720"/>
          </a:xfrm>
        </p:grpSpPr>
        <p:sp>
          <p:nvSpPr>
            <p:cNvPr id="305" name=""/>
            <p:cNvSpPr/>
            <p:nvPr/>
          </p:nvSpPr>
          <p:spPr>
            <a:xfrm>
              <a:off x="198360" y="160164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Ve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54080" y="300528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60480" y="161928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70160" y="1584360"/>
              <a:ext cx="3022920" cy="260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otinas Legai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IPI, DIPJ, DI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SI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Sinteg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Apuraçã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IC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I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I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f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70160" y="4599000"/>
              <a:ext cx="3022920" cy="184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latórios Fisc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gistros de Entr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gistros de Saída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gistro Apuração IC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gistro Apuração IP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8000" y="473220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60480" y="473220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ceir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/>
            <p:nvPr/>
          </p:nvCxnSpPr>
          <p:spPr>
            <a:xfrm>
              <a:off x="828720" y="4373640"/>
              <a:ext cx="1753200" cy="2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313" name=""/>
            <p:cNvCxnSpPr>
              <a:endCxn id="310" idx="0"/>
            </p:cNvCxnSpPr>
            <p:nvPr/>
          </p:nvCxnSpPr>
          <p:spPr>
            <a:xfrm>
              <a:off x="828360" y="4373640"/>
              <a:ext cx="1080" cy="358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endCxn id="311" idx="0"/>
            </p:cNvCxnSpPr>
            <p:nvPr/>
          </p:nvCxnSpPr>
          <p:spPr>
            <a:xfrm>
              <a:off x="2580840" y="4375080"/>
              <a:ext cx="1080" cy="3578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07" idx="2"/>
              <a:endCxn id="306" idx="0"/>
            </p:cNvCxnSpPr>
            <p:nvPr/>
          </p:nvCxnSpPr>
          <p:spPr>
            <a:xfrm rot="5400000">
              <a:off x="1880280" y="2305080"/>
              <a:ext cx="594720" cy="807120"/>
            </a:xfrm>
            <a:prstGeom prst="bentConnector3">
              <a:avLst>
                <a:gd name="adj1" fmla="val 4996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6" name=""/>
            <p:cNvCxnSpPr>
              <a:stCxn id="305" idx="2"/>
              <a:endCxn id="306" idx="0"/>
            </p:cNvCxnSpPr>
            <p:nvPr/>
          </p:nvCxnSpPr>
          <p:spPr>
            <a:xfrm flipH="1" rot="16200000">
              <a:off x="1040400" y="2271600"/>
              <a:ext cx="612000" cy="856440"/>
            </a:xfrm>
            <a:prstGeom prst="bentConnector3">
              <a:avLst>
                <a:gd name="adj1" fmla="val 5297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06" idx="2"/>
            </p:cNvCxnSpPr>
            <p:nvPr/>
          </p:nvCxnSpPr>
          <p:spPr>
            <a:xfrm>
              <a:off x="1774440" y="3796920"/>
              <a:ext cx="1080" cy="57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318" name=""/>
            <p:cNvCxnSpPr>
              <a:stCxn id="306" idx="3"/>
              <a:endCxn id="308" idx="1"/>
            </p:cNvCxnSpPr>
            <p:nvPr/>
          </p:nvCxnSpPr>
          <p:spPr>
            <a:xfrm flipV="1">
              <a:off x="2494080" y="2889000"/>
              <a:ext cx="1576800" cy="513360"/>
            </a:xfrm>
            <a:prstGeom prst="bentConnector3">
              <a:avLst>
                <a:gd name="adj1" fmla="val 6373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06" idx="3"/>
              <a:endCxn id="309" idx="1"/>
            </p:cNvCxnSpPr>
            <p:nvPr/>
          </p:nvCxnSpPr>
          <p:spPr>
            <a:xfrm>
              <a:off x="2494080" y="3401640"/>
              <a:ext cx="1576800" cy="2121480"/>
            </a:xfrm>
            <a:prstGeom prst="bentConnector3">
              <a:avLst>
                <a:gd name="adj1" fmla="val 6414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20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role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9 0.01667 L 0.29167 -0.14583 E">
                                      <p:cBhvr>
                                        <p:cTn id="27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842000" y="335772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>
                  <a:alpha val="70196"/>
                </a:srgbClr>
              </a:gs>
              <a:gs pos="50000">
                <a:srgbClr val="fefefe"/>
              </a:gs>
              <a:gs pos="100000">
                <a:srgbClr val="80008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trimon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32000" y="2260440"/>
            <a:ext cx="6661080" cy="1889280"/>
            <a:chOff x="1332000" y="2260440"/>
            <a:chExt cx="6661080" cy="1889280"/>
          </a:xfrm>
        </p:grpSpPr>
        <p:sp>
          <p:nvSpPr>
            <p:cNvPr id="324" name=""/>
            <p:cNvSpPr/>
            <p:nvPr/>
          </p:nvSpPr>
          <p:spPr>
            <a:xfrm>
              <a:off x="4842000" y="230508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8628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8628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3200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nanç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3200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3080" y="2260440"/>
              <a:ext cx="144000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3080" y="33577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Orçamentár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76280" y="1295280"/>
            <a:ext cx="7966080" cy="4113360"/>
            <a:chOff x="476280" y="1295280"/>
            <a:chExt cx="7966080" cy="4113360"/>
          </a:xfrm>
        </p:grpSpPr>
        <p:cxnSp>
          <p:nvCxnSpPr>
            <p:cNvPr id="332" name=""/>
            <p:cNvCxnSpPr>
              <a:stCxn id="333" idx="2"/>
              <a:endCxn id="334" idx="0"/>
            </p:cNvCxnSpPr>
            <p:nvPr/>
          </p:nvCxnSpPr>
          <p:spPr>
            <a:xfrm flipV="1" rot="10800000">
              <a:off x="1196280" y="4103280"/>
              <a:ext cx="1080" cy="513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476280" y="331164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70196"/>
                  </a:srgbClr>
                </a:gs>
                <a:gs pos="50000">
                  <a:srgbClr val="fefefe"/>
                </a:gs>
                <a:gs pos="100000">
                  <a:srgbClr val="80008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den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02360" y="36846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6640" y="1295280"/>
              <a:ext cx="719280" cy="378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/>
            <p:nvPr/>
          </p:nvCxnSpPr>
          <p:spPr>
            <a:xfrm flipV="1">
              <a:off x="1196640" y="1672560"/>
              <a:ext cx="1080" cy="407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34" name=""/>
            <p:cNvSpPr/>
            <p:nvPr/>
          </p:nvSpPr>
          <p:spPr>
            <a:xfrm>
              <a:off x="476280" y="461628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70196"/>
                  </a:srgbClr>
                </a:gs>
                <a:gs pos="50000">
                  <a:srgbClr val="fefefe"/>
                </a:gs>
                <a:gs pos="100000">
                  <a:srgbClr val="80008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06640" y="2871720"/>
              <a:ext cx="3375000" cy="2417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70196"/>
                  </a:srgbClr>
                </a:gs>
                <a:gs pos="50000">
                  <a:srgbClr val="fefefe"/>
                </a:gs>
                <a:gs pos="100000">
                  <a:srgbClr val="80008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dastramento automát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na comp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Baixas totais e parci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crésci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avali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responsáve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Localiz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Invent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Transferê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4" idx="3"/>
              <a:endCxn id="338" idx="1"/>
            </p:cNvCxnSpPr>
            <p:nvPr/>
          </p:nvCxnSpPr>
          <p:spPr>
            <a:xfrm flipV="1">
              <a:off x="1915920" y="4080600"/>
              <a:ext cx="991080" cy="932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3873600" y="1538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Huma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6280" y="20797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70196"/>
                  </a:srgbClr>
                </a:gs>
                <a:gs pos="50000">
                  <a:srgbClr val="fefefe"/>
                </a:gs>
                <a:gs pos="100000">
                  <a:srgbClr val="80008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t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41" idx="2"/>
              <a:endCxn id="333" idx="0"/>
            </p:cNvCxnSpPr>
            <p:nvPr/>
          </p:nvCxnSpPr>
          <p:spPr>
            <a:xfrm flipV="1" rot="10800000">
              <a:off x="1196280" y="2871360"/>
              <a:ext cx="1080" cy="4406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>
              <a:stCxn id="340" idx="2"/>
              <a:endCxn id="338" idx="0"/>
            </p:cNvCxnSpPr>
            <p:nvPr/>
          </p:nvCxnSpPr>
          <p:spPr>
            <a:xfrm flipV="1" rot="10800000">
              <a:off x="4593600" y="2329920"/>
              <a:ext cx="1080" cy="542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>
              <a:stCxn id="338" idx="3"/>
              <a:endCxn id="335" idx="1"/>
            </p:cNvCxnSpPr>
            <p:nvPr/>
          </p:nvCxnSpPr>
          <p:spPr>
            <a:xfrm>
              <a:off x="6281640" y="4080960"/>
              <a:ext cx="72144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45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role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7692E-006 -2.22222E-006 L 0.29167 -0.2993 E">
                                      <p:cBhvr>
                                        <p:cTn id="28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98480" y="2260440"/>
            <a:ext cx="6661080" cy="1889280"/>
            <a:chOff x="1698480" y="2260440"/>
            <a:chExt cx="6661080" cy="1889280"/>
          </a:xfrm>
        </p:grpSpPr>
        <p:sp>
          <p:nvSpPr>
            <p:cNvPr id="348" name=""/>
            <p:cNvSpPr/>
            <p:nvPr/>
          </p:nvSpPr>
          <p:spPr>
            <a:xfrm>
              <a:off x="5208480" y="335772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Patrimon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8480" y="230508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5276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276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9848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nanç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9848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ado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19560" y="2260440"/>
              <a:ext cx="144000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919920" y="3357720"/>
            <a:ext cx="144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>
                  <a:alpha val="57254"/>
                </a:srgbClr>
              </a:gs>
              <a:gs pos="50000">
                <a:srgbClr val="fef8f3"/>
              </a:gs>
              <a:gs pos="100000">
                <a:srgbClr val="ffcc99">
                  <a:alpha val="5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rçamentá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role Orçament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30120" y="1413000"/>
            <a:ext cx="7630920" cy="4824000"/>
            <a:chOff x="330120" y="1413000"/>
            <a:chExt cx="7630920" cy="4824000"/>
          </a:xfrm>
        </p:grpSpPr>
        <p:sp>
          <p:nvSpPr>
            <p:cNvPr id="358" name=""/>
            <p:cNvSpPr/>
            <p:nvPr/>
          </p:nvSpPr>
          <p:spPr>
            <a:xfrm>
              <a:off x="618120" y="1413000"/>
              <a:ext cx="2879640" cy="4532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9" name=""/>
            <p:cNvCxnSpPr>
              <a:stCxn id="360" idx="2"/>
              <a:endCxn id="361" idx="0"/>
            </p:cNvCxnSpPr>
            <p:nvPr/>
          </p:nvCxnSpPr>
          <p:spPr>
            <a:xfrm flipV="1" rot="10800000">
              <a:off x="2080080" y="4537080"/>
              <a:ext cx="1080" cy="3823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60" name=""/>
            <p:cNvSpPr/>
            <p:nvPr/>
          </p:nvSpPr>
          <p:spPr>
            <a:xfrm>
              <a:off x="1392840" y="3824280"/>
              <a:ext cx="1374120" cy="71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den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mp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92840" y="4919040"/>
              <a:ext cx="1374120" cy="71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eb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92840" y="2730960"/>
              <a:ext cx="1374120" cy="71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t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2"/>
              <a:endCxn id="360" idx="0"/>
            </p:cNvCxnSpPr>
            <p:nvPr/>
          </p:nvCxnSpPr>
          <p:spPr>
            <a:xfrm flipV="1" rot="10800000">
              <a:off x="2080080" y="3443760"/>
              <a:ext cx="1080" cy="3808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1392840" y="1727280"/>
              <a:ext cx="1374120" cy="71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quis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64" idx="2"/>
              <a:endCxn id="362" idx="0"/>
            </p:cNvCxnSpPr>
            <p:nvPr/>
          </p:nvCxnSpPr>
          <p:spPr>
            <a:xfrm flipV="1" rot="10800000">
              <a:off x="2080080" y="2440080"/>
              <a:ext cx="1080" cy="2908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330120" y="2917800"/>
              <a:ext cx="686520" cy="34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6"/>
              <a:endCxn id="362" idx="1"/>
            </p:cNvCxnSpPr>
            <p:nvPr/>
          </p:nvCxnSpPr>
          <p:spPr>
            <a:xfrm>
              <a:off x="1030320" y="3087720"/>
              <a:ext cx="36252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58" idx="6"/>
            </p:cNvCxnSpPr>
            <p:nvPr/>
          </p:nvCxnSpPr>
          <p:spPr>
            <a:xfrm flipV="1">
              <a:off x="3497400" y="3443400"/>
              <a:ext cx="897480" cy="23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69" name=""/>
            <p:cNvSpPr/>
            <p:nvPr/>
          </p:nvSpPr>
          <p:spPr>
            <a:xfrm>
              <a:off x="5074200" y="5216400"/>
              <a:ext cx="2215800" cy="1020600"/>
            </a:xfrm>
            <a:prstGeom prst="flowChartDocumen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e4e4fe"/>
                </a:gs>
                <a:gs pos="100000">
                  <a:srgbClr val="0000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companh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alizado X Previ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71" idx="2"/>
              <a:endCxn id="369" idx="0"/>
            </p:cNvCxnSpPr>
            <p:nvPr/>
          </p:nvCxnSpPr>
          <p:spPr>
            <a:xfrm>
              <a:off x="6178680" y="4797360"/>
              <a:ext cx="3600" cy="41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71" name=""/>
            <p:cNvSpPr/>
            <p:nvPr/>
          </p:nvSpPr>
          <p:spPr>
            <a:xfrm>
              <a:off x="4394880" y="2204640"/>
              <a:ext cx="3566160" cy="25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fe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por 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por fil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por C.Cu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valores orç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 valores realiz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rçamento em outras moe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justes de orça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Integração com planil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68 0.01827 L 0.06165 -0.29896 E">
                                      <p:cBhvr>
                                        <p:cTn id="30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332000" y="334008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rçamentá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232236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50000">
                <a:srgbClr val="fee4e4"/>
              </a:gs>
              <a:gs pos="100000">
                <a:srgbClr val="ff000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ad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226044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086280" y="2305080"/>
            <a:ext cx="4906800" cy="1844640"/>
            <a:chOff x="3086280" y="2305080"/>
            <a:chExt cx="4906800" cy="1844640"/>
          </a:xfrm>
        </p:grpSpPr>
        <p:sp>
          <p:nvSpPr>
            <p:cNvPr id="377" name=""/>
            <p:cNvSpPr/>
            <p:nvPr/>
          </p:nvSpPr>
          <p:spPr>
            <a:xfrm>
              <a:off x="4842000" y="335772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Patrimon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42000" y="230508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86280" y="3340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Contr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6280" y="232236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080" y="33577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7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8080"/>
                  </a:solidFill>
                  <a:latin typeface="Verdana"/>
                </a:rPr>
                <a:t>Finanç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79480" y="1359000"/>
            <a:ext cx="3648240" cy="4770360"/>
            <a:chOff x="2679480" y="1359000"/>
            <a:chExt cx="3648240" cy="4770360"/>
          </a:xfrm>
        </p:grpSpPr>
        <p:sp>
          <p:nvSpPr>
            <p:cNvPr id="383" name=""/>
            <p:cNvSpPr/>
            <p:nvPr/>
          </p:nvSpPr>
          <p:spPr>
            <a:xfrm>
              <a:off x="3579840" y="432900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s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79840" y="533700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70196"/>
                  </a:srgbClr>
                </a:gs>
                <a:gs pos="50000">
                  <a:srgbClr val="fefefe"/>
                </a:gs>
                <a:gs pos="100000">
                  <a:srgbClr val="80008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trimôn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79840" y="33577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>
                    <a:alpha val="70196"/>
                  </a:srgbClr>
                </a:gs>
                <a:gs pos="50000">
                  <a:srgbClr val="fef3e4">
                    <a:alpha val="20000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a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79840" y="234936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Supri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79840" y="13590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>
                    <a:alpha val="70196"/>
                  </a:srgbClr>
                </a:gs>
                <a:gs pos="50000">
                  <a:srgbClr val="e2e9fe"/>
                </a:gs>
                <a:gs pos="100000">
                  <a:srgbClr val="3366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ç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5" idx="1"/>
            </p:cNvCxnSpPr>
            <p:nvPr/>
          </p:nvCxnSpPr>
          <p:spPr>
            <a:xfrm rot="10800000">
              <a:off x="2679120" y="3753720"/>
              <a:ext cx="90072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89" name=""/>
            <p:cNvCxnSpPr>
              <a:stCxn id="386" idx="1"/>
            </p:cNvCxnSpPr>
            <p:nvPr/>
          </p:nvCxnSpPr>
          <p:spPr>
            <a:xfrm flipV="1" rot="10800000">
              <a:off x="2679120" y="2746080"/>
              <a:ext cx="900720" cy="1008720"/>
            </a:xfrm>
            <a:prstGeom prst="bentConnector3">
              <a:avLst>
                <a:gd name="adj1" fmla="val 499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0" name=""/>
            <p:cNvCxnSpPr>
              <a:stCxn id="383" idx="1"/>
            </p:cNvCxnSpPr>
            <p:nvPr/>
          </p:nvCxnSpPr>
          <p:spPr>
            <a:xfrm rot="10800000">
              <a:off x="2679120" y="3753720"/>
              <a:ext cx="900720" cy="972360"/>
            </a:xfrm>
            <a:prstGeom prst="bentConnector3">
              <a:avLst>
                <a:gd name="adj1" fmla="val 499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4" idx="1"/>
            </p:cNvCxnSpPr>
            <p:nvPr/>
          </p:nvCxnSpPr>
          <p:spPr>
            <a:xfrm rot="10800000">
              <a:off x="2679120" y="3753720"/>
              <a:ext cx="900720" cy="1980360"/>
            </a:xfrm>
            <a:prstGeom prst="bentConnector3">
              <a:avLst>
                <a:gd name="adj1" fmla="val 499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1"/>
            </p:cNvCxnSpPr>
            <p:nvPr/>
          </p:nvCxnSpPr>
          <p:spPr>
            <a:xfrm flipV="1" rot="10800000">
              <a:off x="2679120" y="1755360"/>
              <a:ext cx="900720" cy="1999440"/>
            </a:xfrm>
            <a:prstGeom prst="bentConnector3">
              <a:avLst>
                <a:gd name="adj1" fmla="val 499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3"/>
              <a:endCxn id="384" idx="3"/>
            </p:cNvCxnSpPr>
            <p:nvPr/>
          </p:nvCxnSpPr>
          <p:spPr>
            <a:xfrm>
              <a:off x="5019840" y="1755360"/>
              <a:ext cx="2160" cy="397908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394" name=""/>
            <p:cNvCxnSpPr>
              <a:stCxn id="386" idx="3"/>
            </p:cNvCxnSpPr>
            <p:nvPr/>
          </p:nvCxnSpPr>
          <p:spPr>
            <a:xfrm>
              <a:off x="5019840" y="2746080"/>
              <a:ext cx="227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395" name=""/>
            <p:cNvCxnSpPr>
              <a:stCxn id="385" idx="3"/>
            </p:cNvCxnSpPr>
            <p:nvPr/>
          </p:nvCxnSpPr>
          <p:spPr>
            <a:xfrm>
              <a:off x="5019840" y="3754080"/>
              <a:ext cx="452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396" name=""/>
            <p:cNvCxnSpPr>
              <a:stCxn id="383" idx="3"/>
            </p:cNvCxnSpPr>
            <p:nvPr/>
          </p:nvCxnSpPr>
          <p:spPr>
            <a:xfrm>
              <a:off x="5019840" y="4725720"/>
              <a:ext cx="227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397" name=""/>
            <p:cNvCxnSpPr/>
            <p:nvPr/>
          </p:nvCxnSpPr>
          <p:spPr>
            <a:xfrm flipV="1">
              <a:off x="5020920" y="3141360"/>
              <a:ext cx="1307160" cy="61344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398" name=""/>
            <p:cNvCxnSpPr/>
            <p:nvPr/>
          </p:nvCxnSpPr>
          <p:spPr>
            <a:xfrm>
              <a:off x="5020920" y="3754440"/>
              <a:ext cx="1307160" cy="5752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99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4971E-006 L 0.54635 0.24786 E">
                                      <p:cBhvr>
                                        <p:cTn id="319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5723E-006 L 0.54635 -0.10474 E">
                                      <p:cBhvr>
                                        <p:cTn id="321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8.09249E-007 L -0.5809 0.15723 E">
                                      <p:cBhvr>
                                        <p:cTn id="323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2680" y="1808280"/>
            <a:ext cx="8915400" cy="2565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2720" y="205092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nanç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033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s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16640" y="3068640"/>
            <a:ext cx="144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valiação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esqui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18440" y="2033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trimô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2720" y="3068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olh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308628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utom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e Po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7000" y="205092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rolad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1280" y="3068640"/>
            <a:ext cx="144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1280" y="205092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efee4"/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Supr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7000" y="306864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>
                  <a:alpha val="70196"/>
                </a:srgbClr>
              </a:gs>
              <a:gs pos="50000">
                <a:srgbClr val="f0f7db"/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22360" y="1403280"/>
            <a:ext cx="8101080" cy="4932360"/>
            <a:chOff x="522360" y="1403280"/>
            <a:chExt cx="8101080" cy="4932360"/>
          </a:xfrm>
        </p:grpSpPr>
        <p:sp>
          <p:nvSpPr>
            <p:cNvPr id="413" name=""/>
            <p:cNvSpPr/>
            <p:nvPr/>
          </p:nvSpPr>
          <p:spPr>
            <a:xfrm>
              <a:off x="522360" y="554364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99">
                    <a:alpha val="70196"/>
                  </a:srgbClr>
                </a:gs>
                <a:gs pos="100000">
                  <a:srgbClr val="fef0f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Manutençã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7720" y="554364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>
                    <a:alpha val="70196"/>
                  </a:srgbClr>
                </a:gs>
                <a:gs pos="100000">
                  <a:srgbClr val="f0fe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Saú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18080" y="554364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Gest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roje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83440" y="140328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2360" y="140328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100000">
                  <a:srgbClr val="fef3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rodu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83440" y="554364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e4e4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duca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716440" y="69228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139 L -0.17605 -0.09405 E">
                                      <p:cBhvr>
                                        <p:cTn id="338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417 L -0.18646 -0.09126 E">
                                      <p:cBhvr>
                                        <p:cTn id="34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394 L -0.19652 -0.09103 E">
                                      <p:cBhvr>
                                        <p:cTn id="342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1112 L -0.01337 0.21219 E">
                                      <p:cBhvr>
                                        <p:cTn id="344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183 L 0.17847 0.05351 E">
                                      <p:cBhvr>
                                        <p:cTn id="346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2 -0.01112 L -0.16615 0.21219 E">
                                      <p:cBhvr>
                                        <p:cTn id="348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811 L 0.02084 0.05629 E">
                                      <p:cBhvr>
                                        <p:cTn id="35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0556 L 0.02084 0.05745 E">
                                      <p:cBhvr>
                                        <p:cTn id="352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1112 L 0.19688 0.51008 E">
                                      <p:cBhvr>
                                        <p:cTn id="354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7 1.32948E-006 L 0.37395 -0.09087 E">
                                      <p:cBhvr>
                                        <p:cTn id="35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982800" y="1989000"/>
            <a:ext cx="7845120" cy="4321080"/>
            <a:chOff x="982800" y="1989000"/>
            <a:chExt cx="7845120" cy="4321080"/>
          </a:xfrm>
        </p:grpSpPr>
        <p:grpSp>
          <p:nvGrpSpPr>
            <p:cNvPr id="422" name=""/>
            <p:cNvGrpSpPr/>
            <p:nvPr/>
          </p:nvGrpSpPr>
          <p:grpSpPr>
            <a:xfrm>
              <a:off x="982800" y="1989000"/>
              <a:ext cx="7845120" cy="4321080"/>
              <a:chOff x="982800" y="1989000"/>
              <a:chExt cx="7845120" cy="4321080"/>
            </a:xfrm>
          </p:grpSpPr>
          <p:sp>
            <p:nvSpPr>
              <p:cNvPr id="423" name=""/>
              <p:cNvSpPr/>
              <p:nvPr/>
            </p:nvSpPr>
            <p:spPr>
              <a:xfrm>
                <a:off x="982800" y="1989000"/>
                <a:ext cx="7845120" cy="432108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48320" y="2060280"/>
                <a:ext cx="7444800" cy="403200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81520" y="2133360"/>
                <a:ext cx="6980400" cy="367308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15440" y="2133360"/>
                <a:ext cx="6447960" cy="331092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15440" y="2204640"/>
                <a:ext cx="6049440" cy="295236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80960" y="2204640"/>
                <a:ext cx="5784480" cy="273636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1580400" y="2349360"/>
              <a:ext cx="5384520" cy="2519280"/>
              <a:chOff x="1580400" y="2349360"/>
              <a:chExt cx="5384520" cy="2519280"/>
            </a:xfrm>
          </p:grpSpPr>
          <p:sp>
            <p:nvSpPr>
              <p:cNvPr id="430" name=""/>
              <p:cNvSpPr/>
              <p:nvPr/>
            </p:nvSpPr>
            <p:spPr>
              <a:xfrm>
                <a:off x="1580400" y="2349360"/>
                <a:ext cx="5384520" cy="251928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25400" y="2391120"/>
                <a:ext cx="5109840" cy="235080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16840" y="2433600"/>
                <a:ext cx="4791240" cy="214164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08640" y="2433600"/>
                <a:ext cx="4425840" cy="193032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08640" y="2475000"/>
                <a:ext cx="4152240" cy="172116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53640" y="2475000"/>
                <a:ext cx="3970080" cy="1595520"/>
              </a:xfrm>
              <a:prstGeom prst="ellipse">
                <a:avLst/>
              </a:prstGeom>
              <a:noFill/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4194000" y="511164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gração dos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76360" y="1700280"/>
            <a:ext cx="5832360" cy="280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60560" y="323676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>
                  <a:alpha val="70196"/>
                </a:srgbClr>
              </a:gs>
              <a:gs pos="50000">
                <a:srgbClr val="e9f3ee"/>
              </a:gs>
              <a:gs pos="100000">
                <a:srgbClr val="3399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inanc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92720" y="222876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3366">
                  <a:alpha val="70196"/>
                </a:srgbClr>
              </a:gs>
              <a:gs pos="50000">
                <a:srgbClr val="f3e9ee"/>
              </a:gs>
              <a:gs pos="100000">
                <a:srgbClr val="9933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uto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e P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35280" y="323676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>
                  <a:alpha val="70196"/>
                </a:srgbClr>
              </a:gs>
              <a:gs pos="50000">
                <a:srgbClr val="e2e9fe"/>
              </a:gs>
              <a:gs pos="100000">
                <a:srgbClr val="3366ff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ta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92720" y="323208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e2e2f0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nhe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43280" y="2228760"/>
            <a:ext cx="1439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>
                  <a:alpha val="70196"/>
                </a:srgbClr>
              </a:gs>
              <a:gs pos="50000">
                <a:srgbClr val="fef3e9"/>
              </a:gs>
              <a:gs pos="100000">
                <a:srgbClr val="ff9933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olh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g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35280" y="2228760"/>
            <a:ext cx="1440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ee4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 de</a:t>
            </a:r>
            <a:br>
              <a:rPr sz="1400"/>
            </a:b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esso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6440" y="685800"/>
            <a:ext cx="330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dos proces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50000">
                <a:srgbClr val="0033cc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870200" y="2637000"/>
            <a:ext cx="1439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>
                  <a:alpha val="70196"/>
                </a:srgbClr>
              </a:gs>
              <a:gs pos="50000">
                <a:srgbClr val="fef3e9"/>
              </a:gs>
              <a:gs pos="100000">
                <a:srgbClr val="ff9933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olh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g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887480" y="2617920"/>
            <a:ext cx="4772160" cy="1800000"/>
            <a:chOff x="1887480" y="2617920"/>
            <a:chExt cx="4772160" cy="1800000"/>
          </a:xfrm>
        </p:grpSpPr>
        <p:sp>
          <p:nvSpPr>
            <p:cNvPr id="448" name=""/>
            <p:cNvSpPr/>
            <p:nvPr/>
          </p:nvSpPr>
          <p:spPr>
            <a:xfrm>
              <a:off x="1887480" y="3625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19640" y="2617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Autom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de 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62200" y="3625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Con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19640" y="3620880"/>
              <a:ext cx="1440000" cy="7923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Gestão d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Conhec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62200" y="2617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Gestã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Pesso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716440" y="685800"/>
            <a:ext cx="330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Folha de 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50000">
                <a:srgbClr val="0033cc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0920" y="1484280"/>
            <a:ext cx="7991280" cy="4841640"/>
            <a:chOff x="250920" y="1484280"/>
            <a:chExt cx="7991280" cy="4841640"/>
          </a:xfrm>
        </p:grpSpPr>
        <p:sp>
          <p:nvSpPr>
            <p:cNvPr id="456" name=""/>
            <p:cNvSpPr/>
            <p:nvPr/>
          </p:nvSpPr>
          <p:spPr>
            <a:xfrm>
              <a:off x="250920" y="1484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dbdb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uncion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920" y="330192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puraç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8720" y="330192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ol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Men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32360" y="55339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lux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ix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2360" y="33019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das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esso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32360" y="452592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68720" y="1484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dbdb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ndi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32360" y="148428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dbdb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Huma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1280" y="2563560"/>
              <a:ext cx="718920" cy="378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0920" y="4525920"/>
              <a:ext cx="1439640" cy="792000"/>
            </a:xfrm>
            <a:prstGeom prst="flowChartDocument">
              <a:avLst/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lató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68720" y="4525920"/>
              <a:ext cx="1439640" cy="792000"/>
            </a:xfrm>
            <a:prstGeom prst="flowChartDocument">
              <a:avLst/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lató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58" idx="3"/>
              <a:endCxn id="461" idx="1"/>
            </p:cNvCxnSpPr>
            <p:nvPr/>
          </p:nvCxnSpPr>
          <p:spPr>
            <a:xfrm>
              <a:off x="3708360" y="3698640"/>
              <a:ext cx="1224720" cy="1224720"/>
            </a:xfrm>
            <a:prstGeom prst="bentConnector3">
              <a:avLst>
                <a:gd name="adj1" fmla="val 4992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stCxn id="458" idx="3"/>
              <a:endCxn id="459" idx="1"/>
            </p:cNvCxnSpPr>
            <p:nvPr/>
          </p:nvCxnSpPr>
          <p:spPr>
            <a:xfrm>
              <a:off x="3708360" y="3698640"/>
              <a:ext cx="1224720" cy="2232720"/>
            </a:xfrm>
            <a:prstGeom prst="bentConnector3">
              <a:avLst>
                <a:gd name="adj1" fmla="val 4992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58" idx="2"/>
              <a:endCxn id="466" idx="0"/>
            </p:cNvCxnSpPr>
            <p:nvPr/>
          </p:nvCxnSpPr>
          <p:spPr>
            <a:xfrm flipV="1" rot="10800000">
              <a:off x="2988720" y="4093560"/>
              <a:ext cx="1080" cy="4327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57" idx="3"/>
              <a:endCxn id="458" idx="1"/>
            </p:cNvCxnSpPr>
            <p:nvPr/>
          </p:nvCxnSpPr>
          <p:spPr>
            <a:xfrm>
              <a:off x="1690560" y="3698280"/>
              <a:ext cx="57888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57" idx="2"/>
              <a:endCxn id="465" idx="0"/>
            </p:cNvCxnSpPr>
            <p:nvPr/>
          </p:nvCxnSpPr>
          <p:spPr>
            <a:xfrm flipV="1" rot="10800000">
              <a:off x="970920" y="4093560"/>
              <a:ext cx="1080" cy="4327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2" name=""/>
            <p:cNvCxnSpPr>
              <a:stCxn id="456" idx="2"/>
              <a:endCxn id="464" idx="0"/>
            </p:cNvCxnSpPr>
            <p:nvPr/>
          </p:nvCxnSpPr>
          <p:spPr>
            <a:xfrm flipV="1" rot="10800000">
              <a:off x="970920" y="2275920"/>
              <a:ext cx="1080" cy="273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3" name=""/>
            <p:cNvCxnSpPr>
              <a:stCxn id="464" idx="4"/>
              <a:endCxn id="457" idx="0"/>
            </p:cNvCxnSpPr>
            <p:nvPr/>
          </p:nvCxnSpPr>
          <p:spPr>
            <a:xfrm flipV="1" rot="10800000">
              <a:off x="970920" y="2955600"/>
              <a:ext cx="1080" cy="346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60" idx="1"/>
              <a:endCxn id="458" idx="3"/>
            </p:cNvCxnSpPr>
            <p:nvPr/>
          </p:nvCxnSpPr>
          <p:spPr>
            <a:xfrm rot="10800000">
              <a:off x="3707640" y="3697920"/>
              <a:ext cx="122472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75" name=""/>
            <p:cNvSpPr/>
            <p:nvPr/>
          </p:nvSpPr>
          <p:spPr>
            <a:xfrm>
              <a:off x="3995640" y="1701720"/>
              <a:ext cx="719280" cy="377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6" name=""/>
            <p:cNvCxnSpPr>
              <a:stCxn id="462" idx="3"/>
              <a:endCxn id="475" idx="2"/>
            </p:cNvCxnSpPr>
            <p:nvPr/>
          </p:nvCxnSpPr>
          <p:spPr>
            <a:xfrm>
              <a:off x="3708000" y="1880640"/>
              <a:ext cx="273960" cy="10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7" name=""/>
            <p:cNvCxnSpPr>
              <a:stCxn id="475" idx="6"/>
              <a:endCxn id="463" idx="1"/>
            </p:cNvCxnSpPr>
            <p:nvPr/>
          </p:nvCxnSpPr>
          <p:spPr>
            <a:xfrm flipV="1">
              <a:off x="4729320" y="1880280"/>
              <a:ext cx="203760" cy="10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63" idx="2"/>
              <a:endCxn id="460" idx="0"/>
            </p:cNvCxnSpPr>
            <p:nvPr/>
          </p:nvCxnSpPr>
          <p:spPr>
            <a:xfrm>
              <a:off x="5652720" y="2275920"/>
              <a:ext cx="1080" cy="10263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6802560" y="3284280"/>
              <a:ext cx="1439640" cy="792360"/>
            </a:xfrm>
            <a:prstGeom prst="flowChartDocument">
              <a:avLst/>
            </a:prstGeom>
            <a:gradFill rotWithShape="0">
              <a:gsLst>
                <a:gs pos="0">
                  <a:srgbClr val="ff0000">
                    <a:alpha val="70196"/>
                  </a:srgbClr>
                </a:gs>
                <a:gs pos="50000">
                  <a:srgbClr val="fedbdb"/>
                </a:gs>
                <a:gs pos="100000">
                  <a:srgbClr val="ff0000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lató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"/>
            <p:cNvCxnSpPr>
              <a:endCxn id="479" idx="0"/>
            </p:cNvCxnSpPr>
            <p:nvPr/>
          </p:nvCxnSpPr>
          <p:spPr>
            <a:xfrm>
              <a:off x="5651280" y="2636280"/>
              <a:ext cx="1872360" cy="648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108000" y="1484280"/>
            <a:ext cx="8602560" cy="4826160"/>
            <a:chOff x="108000" y="1484280"/>
            <a:chExt cx="8602560" cy="4826160"/>
          </a:xfrm>
        </p:grpSpPr>
        <p:sp>
          <p:nvSpPr>
            <p:cNvPr id="482" name=""/>
            <p:cNvSpPr/>
            <p:nvPr/>
          </p:nvSpPr>
          <p:spPr>
            <a:xfrm>
              <a:off x="108000" y="585144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Solicitação de Fér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0000" y="544356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tenç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Impo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38560" y="285120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ol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Men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1480" y="148428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17840" y="1484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ens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limentí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75280" y="1484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mprésti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7840" y="3787560"/>
              <a:ext cx="1008000" cy="432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7480" y="429264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ontra- Che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0" name=""/>
            <p:cNvCxnSpPr>
              <a:stCxn id="484" idx="1"/>
              <a:endCxn id="485" idx="2"/>
            </p:cNvCxnSpPr>
            <p:nvPr/>
          </p:nvCxnSpPr>
          <p:spPr>
            <a:xfrm rot="10800000">
              <a:off x="1221480" y="2275560"/>
              <a:ext cx="2017080" cy="972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1" name=""/>
            <p:cNvCxnSpPr>
              <a:stCxn id="484" idx="1"/>
              <a:endCxn id="488" idx="0"/>
            </p:cNvCxnSpPr>
            <p:nvPr/>
          </p:nvCxnSpPr>
          <p:spPr>
            <a:xfrm flipV="1" rot="10800000">
              <a:off x="1581840" y="3247560"/>
              <a:ext cx="1656720" cy="5263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1222200" y="27795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ontas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Pag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8000" y="5370480"/>
              <a:ext cx="1008000" cy="431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4" name=""/>
            <p:cNvCxnSpPr>
              <a:stCxn id="484" idx="0"/>
              <a:endCxn id="486" idx="2"/>
            </p:cNvCxnSpPr>
            <p:nvPr/>
          </p:nvCxnSpPr>
          <p:spPr>
            <a:xfrm flipV="1" rot="16200000">
              <a:off x="3310920" y="2202480"/>
              <a:ext cx="57564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4" idx="0"/>
              <a:endCxn id="487" idx="2"/>
            </p:cNvCxnSpPr>
            <p:nvPr/>
          </p:nvCxnSpPr>
          <p:spPr>
            <a:xfrm flipH="1" flipV="1" rot="5400000">
              <a:off x="4140000" y="2094840"/>
              <a:ext cx="575640" cy="937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84" idx="2"/>
              <a:endCxn id="483" idx="0"/>
            </p:cNvCxnSpPr>
            <p:nvPr/>
          </p:nvCxnSpPr>
          <p:spPr>
            <a:xfrm flipH="1" rot="16200000">
              <a:off x="3059640" y="4542120"/>
              <a:ext cx="18010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1584360" y="544356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álcul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é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/>
            <p:nvPr/>
          </p:nvCxnSpPr>
          <p:spPr>
            <a:xfrm rot="5400000">
              <a:off x="2231280" y="3735000"/>
              <a:ext cx="1801080" cy="1654920"/>
            </a:xfrm>
            <a:prstGeom prst="bentConnector3">
              <a:avLst>
                <a:gd name="adj1" fmla="val 6639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93" idx="6"/>
              <a:endCxn id="497" idx="1"/>
            </p:cNvCxnSpPr>
            <p:nvPr/>
          </p:nvCxnSpPr>
          <p:spPr>
            <a:xfrm>
              <a:off x="1130040" y="5586120"/>
              <a:ext cx="454680" cy="254520"/>
            </a:xfrm>
            <a:prstGeom prst="bentConnector3">
              <a:avLst>
                <a:gd name="adj1" fmla="val 4817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5183280" y="285120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utomaç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1" name=""/>
            <p:cNvCxnSpPr>
              <a:stCxn id="500" idx="1"/>
              <a:endCxn id="484" idx="3"/>
            </p:cNvCxnSpPr>
            <p:nvPr/>
          </p:nvCxnSpPr>
          <p:spPr>
            <a:xfrm rot="10800000">
              <a:off x="4677480" y="3247200"/>
              <a:ext cx="505800" cy="10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4896000" y="544356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esco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3" name=""/>
            <p:cNvCxnSpPr/>
            <p:nvPr/>
          </p:nvCxnSpPr>
          <p:spPr>
            <a:xfrm flipH="1" rot="16200000">
              <a:off x="3887640" y="3695040"/>
              <a:ext cx="1801080" cy="1658160"/>
            </a:xfrm>
            <a:prstGeom prst="bentConnector3">
              <a:avLst>
                <a:gd name="adj1" fmla="val 6859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270920" y="3932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>
                    <a:alpha val="70196"/>
                  </a:srgbClr>
                </a:gs>
                <a:gs pos="50000">
                  <a:srgbClr val="e2e9fe"/>
                </a:gs>
                <a:gs pos="100000">
                  <a:srgbClr val="3366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"/>
            <p:cNvCxnSpPr>
              <a:stCxn id="484" idx="2"/>
              <a:endCxn id="504" idx="1"/>
            </p:cNvCxnSpPr>
            <p:nvPr/>
          </p:nvCxnSpPr>
          <p:spPr>
            <a:xfrm flipH="1" rot="16200000">
              <a:off x="5271120" y="2329920"/>
              <a:ext cx="686520" cy="3312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6" name=""/>
            <p:cNvSpPr/>
            <p:nvPr/>
          </p:nvSpPr>
          <p:spPr>
            <a:xfrm>
              <a:off x="6551640" y="544356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oti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Leg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/>
            <p:nvPr/>
          </p:nvCxnSpPr>
          <p:spPr>
            <a:xfrm flipH="1" rot="16200000">
              <a:off x="4714560" y="2905560"/>
              <a:ext cx="1801080" cy="3313800"/>
            </a:xfrm>
            <a:prstGeom prst="bentConnector3">
              <a:avLst>
                <a:gd name="adj1" fmla="val 6665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8" name=""/>
            <p:cNvSpPr/>
            <p:nvPr/>
          </p:nvSpPr>
          <p:spPr>
            <a:xfrm>
              <a:off x="5830920" y="148428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ssi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484" idx="0"/>
              <a:endCxn id="508" idx="2"/>
            </p:cNvCxnSpPr>
            <p:nvPr/>
          </p:nvCxnSpPr>
          <p:spPr>
            <a:xfrm flipH="1" flipV="1" rot="5400000">
              <a:off x="4967280" y="1267200"/>
              <a:ext cx="575640" cy="259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8 0.0206 L 0.61715 -0.19421 E">
                                      <p:cBhvr>
                                        <p:cTn id="377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alta de TI gera perda de R$ 45 bilhões a 5 se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m 2005,o comércio eletrônico faturou 2,5 bilhões de reais, um crescimento de 43% sobre o ano anterior.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stamos na Era da Logís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vestimento em TI aumenta ano após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6510960" y="44280"/>
            <a:ext cx="231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Verdana"/>
              </a:rPr>
              <a:t>Cenário At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1870200" y="2617920"/>
            <a:ext cx="4789440" cy="1800000"/>
            <a:chOff x="1870200" y="2617920"/>
            <a:chExt cx="4789440" cy="1800000"/>
          </a:xfrm>
        </p:grpSpPr>
        <p:sp>
          <p:nvSpPr>
            <p:cNvPr id="511" name=""/>
            <p:cNvSpPr/>
            <p:nvPr/>
          </p:nvSpPr>
          <p:spPr>
            <a:xfrm>
              <a:off x="1870200" y="263700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Folh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Pag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7480" y="3625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19640" y="2617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Autom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de 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62200" y="3625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Con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19640" y="362124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Gestão d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Conhec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562200" y="2617920"/>
            <a:ext cx="144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ee4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stão de </a:t>
            </a:r>
            <a:br>
              <a:rPr sz="1400"/>
            </a:b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esso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22200" y="1557360"/>
            <a:ext cx="8570880" cy="4680000"/>
            <a:chOff x="322200" y="1557360"/>
            <a:chExt cx="8570880" cy="4680000"/>
          </a:xfrm>
        </p:grpSpPr>
        <p:sp>
          <p:nvSpPr>
            <p:cNvPr id="518" name=""/>
            <p:cNvSpPr/>
            <p:nvPr/>
          </p:nvSpPr>
          <p:spPr>
            <a:xfrm>
              <a:off x="2448000" y="3139920"/>
              <a:ext cx="3278160" cy="223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Recursos Huma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urrículos e Recru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Medicina do Trabal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Trein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valiação de desempen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rgos e Sal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encioso Trabalhi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2200" y="155736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ndi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uncion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8200" y="3213000"/>
              <a:ext cx="1008000" cy="432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00000" y="285264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Recrutamento 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Sele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59640" y="249228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adast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essoas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uncion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56000" y="156060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Gest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hec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" name=""/>
            <p:cNvCxnSpPr>
              <a:stCxn id="519" idx="2"/>
              <a:endCxn id="520" idx="0"/>
            </p:cNvCxnSpPr>
            <p:nvPr/>
          </p:nvCxnSpPr>
          <p:spPr>
            <a:xfrm flipV="1" rot="10800000">
              <a:off x="1042200" y="2349000"/>
              <a:ext cx="1080" cy="8503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5" name=""/>
            <p:cNvCxnSpPr>
              <a:stCxn id="520" idx="4"/>
              <a:endCxn id="518" idx="1"/>
            </p:cNvCxnSpPr>
            <p:nvPr/>
          </p:nvCxnSpPr>
          <p:spPr>
            <a:xfrm flipH="1" rot="16200000">
              <a:off x="1444680" y="3255480"/>
              <a:ext cx="599400" cy="14054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6" name=""/>
            <p:cNvCxnSpPr>
              <a:stCxn id="519" idx="3"/>
              <a:endCxn id="523" idx="1"/>
            </p:cNvCxnSpPr>
            <p:nvPr/>
          </p:nvCxnSpPr>
          <p:spPr>
            <a:xfrm>
              <a:off x="1761840" y="1953720"/>
              <a:ext cx="79452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7" name=""/>
            <p:cNvCxnSpPr>
              <a:stCxn id="523" idx="2"/>
              <a:endCxn id="518" idx="0"/>
            </p:cNvCxnSpPr>
            <p:nvPr/>
          </p:nvCxnSpPr>
          <p:spPr>
            <a:xfrm flipH="1" rot="16200000">
              <a:off x="3287520" y="2340360"/>
              <a:ext cx="788040" cy="81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28" name=""/>
            <p:cNvSpPr/>
            <p:nvPr/>
          </p:nvSpPr>
          <p:spPr>
            <a:xfrm>
              <a:off x="4284720" y="155736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50000">
                  <a:srgbClr val="fefee4"/>
                </a:gs>
                <a:gs pos="100000">
                  <a:srgbClr val="ffff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H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esso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28" idx="2"/>
              <a:endCxn id="518" idx="0"/>
            </p:cNvCxnSpPr>
            <p:nvPr/>
          </p:nvCxnSpPr>
          <p:spPr>
            <a:xfrm rot="5400000">
              <a:off x="4150440" y="2285640"/>
              <a:ext cx="791280" cy="918360"/>
            </a:xfrm>
            <a:prstGeom prst="bentConnector3">
              <a:avLst>
                <a:gd name="adj1" fmla="val 4997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18" idx="3"/>
              <a:endCxn id="522" idx="1"/>
            </p:cNvCxnSpPr>
            <p:nvPr/>
          </p:nvCxnSpPr>
          <p:spPr>
            <a:xfrm flipV="1">
              <a:off x="5725800" y="2888640"/>
              <a:ext cx="934200" cy="1369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31" name=""/>
            <p:cNvSpPr/>
            <p:nvPr/>
          </p:nvSpPr>
          <p:spPr>
            <a:xfrm>
              <a:off x="6659640" y="386064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olh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2" name=""/>
            <p:cNvCxnSpPr>
              <a:stCxn id="522" idx="2"/>
              <a:endCxn id="531" idx="0"/>
            </p:cNvCxnSpPr>
            <p:nvPr/>
          </p:nvCxnSpPr>
          <p:spPr>
            <a:xfrm flipV="1" rot="10800000">
              <a:off x="7379640" y="3284640"/>
              <a:ext cx="1080" cy="576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33" name=""/>
            <p:cNvSpPr/>
            <p:nvPr/>
          </p:nvSpPr>
          <p:spPr>
            <a:xfrm>
              <a:off x="5869080" y="544500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9966">
                    <a:alpha val="70196"/>
                  </a:srgbClr>
                </a:gs>
                <a:gs pos="50000">
                  <a:srgbClr val="e9f3ee"/>
                </a:gs>
                <a:gs pos="100000">
                  <a:srgbClr val="3399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inanç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53440" y="544500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>
                    <a:alpha val="70196"/>
                  </a:srgbClr>
                </a:gs>
                <a:gs pos="50000">
                  <a:srgbClr val="e2e9fe"/>
                </a:gs>
                <a:gs pos="100000">
                  <a:srgbClr val="3366ff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1" idx="2"/>
              <a:endCxn id="533" idx="0"/>
            </p:cNvCxnSpPr>
            <p:nvPr/>
          </p:nvCxnSpPr>
          <p:spPr>
            <a:xfrm rot="5400000">
              <a:off x="6588360" y="4653720"/>
              <a:ext cx="792720" cy="791280"/>
            </a:xfrm>
            <a:prstGeom prst="bentConnector3">
              <a:avLst>
                <a:gd name="adj1" fmla="val 4988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2"/>
              <a:endCxn id="534" idx="0"/>
            </p:cNvCxnSpPr>
            <p:nvPr/>
          </p:nvCxnSpPr>
          <p:spPr>
            <a:xfrm flipH="1" rot="16200000">
              <a:off x="7380360" y="4651920"/>
              <a:ext cx="792720" cy="794520"/>
            </a:xfrm>
            <a:prstGeom prst="bentConnector3">
              <a:avLst>
                <a:gd name="adj1" fmla="val 4988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37" name=""/>
          <p:cNvSpPr/>
          <p:nvPr/>
        </p:nvSpPr>
        <p:spPr>
          <a:xfrm>
            <a:off x="5716440" y="685800"/>
            <a:ext cx="330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estão de Pesso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50000">
                <a:srgbClr val="0033cc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8974E-006 -3.7037E-007 L 0.43333 -0.1912 E">
                                      <p:cBhvr>
                                        <p:cTn id="39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219640" y="2617920"/>
            <a:ext cx="144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3366">
                  <a:alpha val="70196"/>
                </a:srgbClr>
              </a:gs>
              <a:gs pos="50000">
                <a:srgbClr val="f3e9ee"/>
              </a:gs>
              <a:gs pos="100000">
                <a:srgbClr val="993366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uto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e P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870200" y="2617920"/>
            <a:ext cx="4789440" cy="1800000"/>
            <a:chOff x="1870200" y="2617920"/>
            <a:chExt cx="4789440" cy="1800000"/>
          </a:xfrm>
        </p:grpSpPr>
        <p:sp>
          <p:nvSpPr>
            <p:cNvPr id="541" name=""/>
            <p:cNvSpPr/>
            <p:nvPr/>
          </p:nvSpPr>
          <p:spPr>
            <a:xfrm>
              <a:off x="1870200" y="263700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Folh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Pag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87480" y="3625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Financ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62200" y="3625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Con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19640" y="362124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Gestão d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Conhec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62200" y="2617920"/>
              <a:ext cx="1440000" cy="79200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6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Gestão de</a:t>
              </a:r>
              <a:br>
                <a:rPr sz="1400"/>
              </a:br>
              <a:r>
                <a:rPr b="1" lang="pt-BR" sz="1400" spc="-1" strike="noStrike">
                  <a:solidFill>
                    <a:srgbClr val="dddddd"/>
                  </a:solidFill>
                  <a:latin typeface="Verdana"/>
                </a:rPr>
                <a:t>Pesso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12760" y="1484280"/>
            <a:ext cx="8319960" cy="4826160"/>
            <a:chOff x="212760" y="1484280"/>
            <a:chExt cx="8319960" cy="4826160"/>
          </a:xfrm>
        </p:grpSpPr>
        <p:sp>
          <p:nvSpPr>
            <p:cNvPr id="547" name=""/>
            <p:cNvSpPr/>
            <p:nvPr/>
          </p:nvSpPr>
          <p:spPr>
            <a:xfrm>
              <a:off x="585720" y="2925720"/>
              <a:ext cx="792360" cy="431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0000" y="148428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Ger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Supervis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" name=""/>
            <p:cNvCxnSpPr>
              <a:stCxn id="548" idx="2"/>
              <a:endCxn id="547" idx="0"/>
            </p:cNvCxnSpPr>
            <p:nvPr/>
          </p:nvCxnSpPr>
          <p:spPr>
            <a:xfrm rot="5400000">
              <a:off x="668520" y="2589840"/>
              <a:ext cx="635760" cy="8640"/>
            </a:xfrm>
            <a:prstGeom prst="bentConnector3">
              <a:avLst>
                <a:gd name="adj1" fmla="val 5099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50" name=""/>
            <p:cNvSpPr/>
            <p:nvPr/>
          </p:nvSpPr>
          <p:spPr>
            <a:xfrm>
              <a:off x="2340000" y="24210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ntrada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prov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de Ba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40000" y="34290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ntrad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Exce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2" name=""/>
            <p:cNvCxnSpPr>
              <a:stCxn id="547" idx="6"/>
              <a:endCxn id="550" idx="1"/>
            </p:cNvCxnSpPr>
            <p:nvPr/>
          </p:nvCxnSpPr>
          <p:spPr>
            <a:xfrm flipV="1">
              <a:off x="1391760" y="2817360"/>
              <a:ext cx="948600" cy="324720"/>
            </a:xfrm>
            <a:prstGeom prst="bentConnector3">
              <a:avLst>
                <a:gd name="adj1" fmla="val 4924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53" name=""/>
            <p:cNvCxnSpPr>
              <a:stCxn id="547" idx="6"/>
              <a:endCxn id="551" idx="1"/>
            </p:cNvCxnSpPr>
            <p:nvPr/>
          </p:nvCxnSpPr>
          <p:spPr>
            <a:xfrm>
              <a:off x="1391760" y="3141720"/>
              <a:ext cx="948600" cy="684720"/>
            </a:xfrm>
            <a:prstGeom prst="bentConnector3">
              <a:avLst>
                <a:gd name="adj1" fmla="val 4924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graphicFrame>
          <p:nvGraphicFramePr>
            <p:cNvPr id="554" name=""/>
            <p:cNvGraphicFramePr/>
            <p:nvPr/>
          </p:nvGraphicFramePr>
          <p:xfrm>
            <a:off x="7596360" y="4870440"/>
            <a:ext cx="552240" cy="100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96360" y="4870440"/>
                      <a:ext cx="5522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6" name=""/>
            <p:cNvSpPr/>
            <p:nvPr/>
          </p:nvSpPr>
          <p:spPr>
            <a:xfrm>
              <a:off x="4498920" y="292428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0" idx="3"/>
              <a:endCxn id="556" idx="1"/>
            </p:cNvCxnSpPr>
            <p:nvPr/>
          </p:nvCxnSpPr>
          <p:spPr>
            <a:xfrm>
              <a:off x="3779640" y="2817720"/>
              <a:ext cx="719640" cy="50400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1" idx="3"/>
              <a:endCxn id="556" idx="1"/>
            </p:cNvCxnSpPr>
            <p:nvPr/>
          </p:nvCxnSpPr>
          <p:spPr>
            <a:xfrm flipV="1">
              <a:off x="3779640" y="3320640"/>
              <a:ext cx="719640" cy="5054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59" name=""/>
            <p:cNvSpPr/>
            <p:nvPr/>
          </p:nvSpPr>
          <p:spPr>
            <a:xfrm>
              <a:off x="7093080" y="3717720"/>
              <a:ext cx="143964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Cole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00720" y="1630440"/>
              <a:ext cx="1439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>
                    <a:alpha val="70196"/>
                  </a:srgbClr>
                </a:gs>
                <a:gs pos="50000">
                  <a:srgbClr val="fef3e9"/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olh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Pag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2760" y="4006800"/>
              <a:ext cx="1440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Funcion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9640" y="5230800"/>
              <a:ext cx="792360" cy="431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0000" y="458136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Abo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40000" y="5518080"/>
              <a:ext cx="144000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3366">
                    <a:alpha val="70196"/>
                  </a:srgbClr>
                </a:gs>
                <a:gs pos="50000">
                  <a:srgbClr val="f3e9ee"/>
                </a:gs>
                <a:gs pos="100000">
                  <a:srgbClr val="993366">
                    <a:alpha val="7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Justifica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>
              <a:stCxn id="563" idx="3"/>
              <a:endCxn id="556" idx="2"/>
            </p:cNvCxnSpPr>
            <p:nvPr/>
          </p:nvCxnSpPr>
          <p:spPr>
            <a:xfrm flipV="1">
              <a:off x="3779640" y="3715920"/>
              <a:ext cx="1440360" cy="12628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66" name=""/>
            <p:cNvCxnSpPr>
              <a:stCxn id="564" idx="3"/>
              <a:endCxn id="556" idx="2"/>
            </p:cNvCxnSpPr>
            <p:nvPr/>
          </p:nvCxnSpPr>
          <p:spPr>
            <a:xfrm flipV="1">
              <a:off x="3779640" y="3715920"/>
              <a:ext cx="1440360" cy="219960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67" name=""/>
            <p:cNvCxnSpPr>
              <a:stCxn id="559" idx="1"/>
              <a:endCxn id="556" idx="3"/>
            </p:cNvCxnSpPr>
            <p:nvPr/>
          </p:nvCxnSpPr>
          <p:spPr>
            <a:xfrm rot="10800000">
              <a:off x="5938200" y="3320280"/>
              <a:ext cx="1154880" cy="794520"/>
            </a:xfrm>
            <a:prstGeom prst="bentConnector3">
              <a:avLst>
                <a:gd name="adj1" fmla="val 4992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68" name=""/>
            <p:cNvCxnSpPr/>
            <p:nvPr/>
          </p:nvCxnSpPr>
          <p:spPr>
            <a:xfrm rot="10800000">
              <a:off x="6516000" y="3356640"/>
              <a:ext cx="1080360" cy="2018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569" name=""/>
            <p:cNvCxnSpPr>
              <a:stCxn id="556" idx="0"/>
              <a:endCxn id="560" idx="2"/>
            </p:cNvCxnSpPr>
            <p:nvPr/>
          </p:nvCxnSpPr>
          <p:spPr>
            <a:xfrm flipH="1" flipV="1" rot="5400000">
              <a:off x="4969080" y="2671920"/>
              <a:ext cx="502560" cy="252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1" idx="2"/>
              <a:endCxn id="562" idx="0"/>
            </p:cNvCxnSpPr>
            <p:nvPr/>
          </p:nvCxnSpPr>
          <p:spPr>
            <a:xfrm flipH="1" rot="16200000">
              <a:off x="725400" y="5005800"/>
              <a:ext cx="418320" cy="3960"/>
            </a:xfrm>
            <a:prstGeom prst="bentConnector3">
              <a:avLst>
                <a:gd name="adj1" fmla="val 4995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1" name=""/>
            <p:cNvCxnSpPr/>
            <p:nvPr/>
          </p:nvCxnSpPr>
          <p:spPr>
            <a:xfrm flipV="1">
              <a:off x="1345680" y="4977720"/>
              <a:ext cx="994680" cy="469080"/>
            </a:xfrm>
            <a:prstGeom prst="bentConnector3">
              <a:avLst>
                <a:gd name="adj1" fmla="val 4916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62" idx="6"/>
              <a:endCxn id="564" idx="1"/>
            </p:cNvCxnSpPr>
            <p:nvPr/>
          </p:nvCxnSpPr>
          <p:spPr>
            <a:xfrm>
              <a:off x="1345680" y="5446440"/>
              <a:ext cx="994680" cy="469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73" name=""/>
          <p:cNvSpPr/>
          <p:nvPr/>
        </p:nvSpPr>
        <p:spPr>
          <a:xfrm>
            <a:off x="5716440" y="685800"/>
            <a:ext cx="330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mação de P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97600" y="-27000"/>
            <a:ext cx="2127240" cy="36036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50000">
                <a:srgbClr val="0033cc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69231E-007 -1.85185E-006 L 0.25032 -0.19143 E">
                                      <p:cBhvr>
                                        <p:cTn id="409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500" spc="-1" strike="noStrike">
                <a:solidFill>
                  <a:srgbClr val="000000"/>
                </a:solidFill>
                <a:latin typeface="Verdana"/>
              </a:rPr>
              <a:t>Exercícios</a:t>
            </a:r>
            <a:endParaRPr b="0" i="1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onte o fluxograma dos processos atuais da área em que você trabalh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Qual seria o fluxo de informações da sua área após uma otimização de seus process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Fundamentalmente existe apenas um problema Real tratando-se de Mercado...</a:t>
            </a:r>
            <a:endParaRPr b="0" i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Verdana"/>
              </a:rPr>
              <a:t>... Como ganhar mais dinheiro 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08480" y="2711520"/>
            <a:ext cx="26892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E apenas duas alternativas efetivas:</a:t>
            </a:r>
            <a:endParaRPr b="0" i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6765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aturar mais com mesma margem  de luc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umentar a margem através de redução de Custos e Aumento de produtiv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12000" y="3860640"/>
            <a:ext cx="1332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Alternativas para os Problemas Reais</a:t>
            </a:r>
            <a:endParaRPr b="0" i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5973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umento de Ven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gilidade em V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lhorar o Atendimento do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spec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e de Cus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gilidade em Comp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65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900" spc="-1" strike="noStrike">
                <a:solidFill>
                  <a:srgbClr val="000000"/>
                </a:solidFill>
                <a:latin typeface="Verdana"/>
              </a:rPr>
              <a:t>Como colocar isso funcionando na minha </a:t>
            </a:r>
            <a:br>
              <a:rPr sz="6900"/>
            </a:br>
            <a:r>
              <a:rPr b="0" i="1" lang="pt-BR" sz="6900" spc="-1" strike="noStrike">
                <a:solidFill>
                  <a:srgbClr val="000000"/>
                </a:solidFill>
                <a:latin typeface="Verdana"/>
              </a:rPr>
              <a:t>empresa ???</a:t>
            </a:r>
            <a:endParaRPr b="0" i="1" lang="en-US" sz="6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800" spc="-1" strike="noStrike">
                <a:solidFill>
                  <a:srgbClr val="000000"/>
                </a:solidFill>
                <a:latin typeface="Verdana"/>
              </a:rPr>
              <a:t>Duas Alternativas...</a:t>
            </a:r>
            <a:endParaRPr b="0" i="1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404640"/>
            <a:ext cx="8785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Desenvolvimento interno vs pacotes: qual a melhor opção?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IL DOMÉ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rantia de atendimento ao cliente inte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endimento a necessidades específicas do negóc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gência de equipe própr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forços de integração com aplicações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IL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úmulo de experiências em outras implementaçõ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dade de integração com a cade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gência de customizações específic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forços de integração com o lega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2:39:55Z</dcterms:created>
  <dc:creator>Carol</dc:creator>
  <dc:description/>
  <dc:language>en-US</dc:language>
  <cp:lastModifiedBy>PNETO</cp:lastModifiedBy>
  <dcterms:modified xsi:type="dcterms:W3CDTF">2007-01-10T13:58:43Z</dcterms:modified>
  <cp:revision>157</cp:revision>
  <dc:subject/>
  <dc:title>Apresentação do PowerPoint</dc:title>
</cp:coreProperties>
</file>